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0EA7-984F-4431-8351-AEAD45CEB36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57FE-1AA7-44CD-92AB-B86D46263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0E16-79D4-4E21-B364-F1D5C667B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754C-FF08-41BF-9ED5-DE36A73D9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5021-0121-46C6-AAFF-DFDD6D2FF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174AA-0248-4ADA-A5EF-BB92AEA2D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3C24-C5E6-4DD9-9D0C-8B4552DDC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A1E0-A2AB-4547-BDDC-371B696B0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FB37-EECD-45B5-AEEB-76A8F4728C0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4AAF-DF0D-4CBB-8437-CF9AF9501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480B-CDCF-4D0F-BC03-A835D5D69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A17A-6ED1-4F07-8655-C52FFDC00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5AA1-6840-4EE6-A23D-CC4B5DAE37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353BE-1350-41EE-98A0-7E921BC50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9A48F-52C7-481F-BFEE-F75226DCB81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AE05-D61C-4DF1-8071-9B3C64ABD7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D6A3-4518-4DA7-9BE4-D288B4892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GEF Expanded Constituency Workshop</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Managua, Nicaragu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es"/>
                <a:ea typeface="Times New Roman"/>
              </a:rPr>
              <a:t>March 3-4, 2015</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Nicolas Alejandro Marquez Pizzanelli</cp:lastModifiedBy>
  <cp:lastPrinted>2015-01-21T13:27:28Z</cp:lastPrinted>
  <dcterms:modified xsi:type="dcterms:W3CDTF">2015-02-09T17:27:32Z</dcterms:modified>
  <cp:revision>376</cp:revision>
  <dc:subject/>
  <dc:title>Slide 1</dc:title>
</cp:coreProperties>
</file>