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AB23-7B6A-4C7F-B410-EC71FE3423A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3927-2E9E-4373-843E-D661B4E81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4D37-610C-4726-944D-CF92A128B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8615-3740-4F17-BC04-D3FF17CFE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94A3-562B-413C-9680-32491763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240D-B467-4624-B6C5-5BAE2AAEA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6FB6-E1C9-4AF4-8535-6596F8280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8A15-F59E-4B34-94FF-AD9FC4126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F385-D61E-41E4-A539-96723C2BCE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666D-E878-4263-94BE-B3678DA78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BBAC-8356-4334-861F-5C7215027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E7C7-C863-4439-A232-6DBB788DC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C16C-F97C-4220-97D7-1684737366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3110-FAF6-4014-AE01-F56857FA0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2D67-F117-4DFA-8981-4417D5E831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32C4-1596-465B-8F0F-1B3F1903F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A371-C8BC-4C67-A715-B7145C900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Managua, Nicaragu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March 3-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2-09T17:27:32Z</dcterms:modified>
  <cp:revision>376</cp:revision>
  <dc:subject/>
  <dc:title>Slide 1</dc:title>
</cp:coreProperties>
</file>