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A1554-FF81-4A2E-8A1C-4AEF0F5EA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D6C7B-A71A-4BA9-BAEE-7C80E7F63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1F2E6-282E-4E4C-9AEC-C18C22628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96D71-BD62-45C4-AE7C-2A3097E1F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F288E-3CA2-4EB3-BA47-D44CDD940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DE949-FFB4-47A9-83F0-CDFE53E50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60902-2341-4F02-8E0E-9E63452AE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574A0-3FAA-47F7-A691-C66C5D405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496E7-87B1-43CD-93EF-5DA19F372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C942-0EF0-48AB-8BDB-B99B8D93D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5507E-9D54-4939-AD4A-B369070CF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BDEAF-B446-4C8A-ACD1-46FA72130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E60C-1EC3-4FB0-8D43-3319A7AE0A25}"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dopted by GEF in 2012</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Recognition of indigenous peoples as stakeholders, partners and rights-holder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cknowledgement of UNDRIP and support for realization of its provision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more proactive engagement of Indigenous peoples in GEF projects and programmes</a:t>
            </a:r>
            <a:endParaRPr b="0" lang="en-US" sz="2700" spc="-1" strike="noStrike">
              <a:solidFill>
                <a:srgbClr val="ffffff"/>
              </a:solidFill>
              <a:latin typeface="Tahoma"/>
            </a:endParaRPr>
          </a:p>
          <a:p>
            <a:pPr marL="329040" indent="-329040">
              <a:lnSpc>
                <a:spcPct val="80000"/>
              </a:lnSpc>
              <a:spcBef>
                <a:spcPts val="6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ahoma"/>
              </a:rPr>
              <a:t>Calls for effective consultations and engagement with Indigenous peoples for any projects in areas inhabited by indigenous and tribal  peoples</a:t>
            </a:r>
            <a:endParaRPr b="0" lang="en-US" sz="2700" spc="-1" strike="noStrike">
              <a:solidFill>
                <a:srgbClr val="ffffff"/>
              </a:solidFill>
              <a:latin typeface="Tahoma"/>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77000"/>
          </a:bodyPr>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nvironmental and social safeguards, engagement with IPs etc</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63880" indent="-263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Ongoing</a:t>
            </a:r>
            <a:r>
              <a:rPr b="0" lang="en-US" sz="3200" spc="-1" strike="noStrike">
                <a:solidFill>
                  <a:srgbClr val="e5ffff"/>
                </a:solidFill>
                <a:latin typeface="Tahoma"/>
              </a:rPr>
              <a:t> Process to </a:t>
            </a:r>
            <a:r>
              <a:rPr b="0" lang="en-US" sz="3200" spc="-1" strike="noStrike">
                <a:solidFill>
                  <a:srgbClr val="ff0000"/>
                </a:solidFill>
                <a:latin typeface="Tahoma"/>
              </a:rPr>
              <a:t>update policy and</a:t>
            </a:r>
            <a:r>
              <a:rPr b="0" lang="en-US" sz="3200" spc="-1" strike="noStrike">
                <a:solidFill>
                  <a:srgbClr val="e5ffff"/>
                </a:solidFill>
                <a:latin typeface="Tahoma"/>
              </a:rPr>
              <a:t> develop Guidelines on public involvement</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0000"/>
          </a:bodyPr>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review of the Public involvement Policy is ongoing  </a:t>
            </a:r>
            <a:r>
              <a:rPr b="0" lang="en-US" sz="2400" spc="-1" strike="noStrike">
                <a:solidFill>
                  <a:srgbClr val="ffffff"/>
                </a:solidFill>
                <a:latin typeface="Tahoma"/>
              </a:rPr>
              <a:t>through a participatory process in 2013-2014 to enable for consideration by the GEF Council in June 2014 It involv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a:t>
            </a:r>
            <a:r>
              <a:rPr b="0" lang="en-GB" sz="2400" spc="-1" strike="noStrike">
                <a:solidFill>
                  <a:srgbClr val="ff0000"/>
                </a:solidFill>
                <a:latin typeface="Tahoma"/>
              </a:rPr>
              <a:t>Seek feedback from CSOs and OFPs therough questionnaires </a:t>
            </a:r>
            <a:r>
              <a:rPr b="0" lang="en-GB" sz="2400" spc="-1" strike="noStrike">
                <a:solidFill>
                  <a:srgbClr val="ffffff"/>
                </a:solidFill>
                <a:latin typeface="Tahoma"/>
              </a:rPr>
              <a:t>and  through ECW and other meetings</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411480" indent="-41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411480" indent="-4114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Process</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84000"/>
          </a:bodyPr>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 </a:t>
            </a:r>
            <a:r>
              <a:rPr b="0" lang="en-US" sz="3200" spc="-1" strike="noStrike">
                <a:solidFill>
                  <a:srgbClr val="ff0000"/>
                </a:solidFill>
                <a:latin typeface="Tahoma"/>
              </a:rPr>
              <a:t>Countries divided to two groups to examine the questions</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table should discuss the relevant questions and complete the hard copy of the questionnaire related to their topic.</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highlight selected key points from their table to the full meeting</a:t>
            </a:r>
            <a:endParaRPr b="0" lang="en-US" sz="3200" spc="-1" strike="noStrike">
              <a:solidFill>
                <a:srgbClr val="ffffff"/>
              </a:solidFill>
              <a:latin typeface="Tahoma"/>
            </a:endParaRPr>
          </a:p>
          <a:p>
            <a:pPr marL="288000" indent="-2880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ach group should pass a copy of the completed questionnaire to the facilitat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SO consultation prior to the 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A one day Consultation was undertaken among CSOs prior to the ECW  meet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he main issues and recommendations will be shared with the EC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FParish</cp:lastModifiedBy>
  <dcterms:modified xsi:type="dcterms:W3CDTF">2013-11-28T05:10:18Z</dcterms:modified>
  <cp:revision>83</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