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DB83A-2F66-4F96-8768-6C1BE21AB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FDC9-37F9-40A8-9C17-D7AF0B356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02411-E22E-4D94-95FA-A7A869813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286E6-DFBC-406D-B1AF-E69272241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09B4-1B7C-4D0E-AD62-F8E84ABB4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AEA5-E2A7-4949-B2CD-CC9579A35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4F208-2397-464D-AAA2-891F785D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16937-B817-4977-BBD3-EFAF293B2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B79F-795F-466C-9AF4-A7ED7072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36F4B-1F7B-4AC8-A807-68C712DC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FCA8-00AE-439E-978F-3EAC512DF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C773-26F6-47EC-A183-A545CB194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ED75-1D73-4C26-BDC7-5D688E5FFB4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dopted by GEF in 2012</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Recognition of indigenous peoples as stakeholders, partners and rights-holder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cknowledgement of UNDRIP and support for realization of its provision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more proactive engagement of Indigenous peoples in GEF projects and programme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effective consultations and engagement with Indigenous peoples for any projects in areas inhabited by indigenous and tribal  peoples</a:t>
            </a:r>
            <a:endParaRPr b="0" lang="en-US" sz="2700" spc="-1" strike="noStrike">
              <a:solidFill>
                <a:srgbClr val="ffffff"/>
              </a:solidFill>
              <a:latin typeface="Tahoma"/>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77000"/>
          </a:bodyPr>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nvironmental and social safeguards, engagement with IPs etc</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Ongoing</a:t>
            </a:r>
            <a:r>
              <a:rPr b="0" lang="en-US" sz="3200" spc="-1" strike="noStrike">
                <a:solidFill>
                  <a:srgbClr val="e5ffff"/>
                </a:solidFill>
                <a:latin typeface="Tahoma"/>
              </a:rPr>
              <a:t> Process to </a:t>
            </a:r>
            <a:r>
              <a:rPr b="0" lang="en-US" sz="3200" spc="-1" strike="noStrike">
                <a:solidFill>
                  <a:srgbClr val="ff0000"/>
                </a:solidFill>
                <a:latin typeface="Tahoma"/>
              </a:rPr>
              <a:t>update policy and</a:t>
            </a:r>
            <a:r>
              <a:rPr b="0" lang="en-US" sz="3200" spc="-1" strike="noStrike">
                <a:solidFill>
                  <a:srgbClr val="e5ffff"/>
                </a:solidFill>
                <a:latin typeface="Tahoma"/>
              </a:rPr>
              <a:t> develop Guidelines on public involvement</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0000"/>
          </a:bodyPr>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review of the Public involvement Policy is ongoing  </a:t>
            </a:r>
            <a:r>
              <a:rPr b="0" lang="en-US" sz="2400" spc="-1" strike="noStrike">
                <a:solidFill>
                  <a:srgbClr val="ffffff"/>
                </a:solidFill>
                <a:latin typeface="Tahoma"/>
              </a:rPr>
              <a:t>through a participatory process in 2013-2014 to enable for consideration by the GEF Council in June 2014 It involv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a:t>
            </a:r>
            <a:r>
              <a:rPr b="0" lang="en-GB" sz="2400" spc="-1" strike="noStrike">
                <a:solidFill>
                  <a:srgbClr val="ff0000"/>
                </a:solidFill>
                <a:latin typeface="Tahoma"/>
              </a:rPr>
              <a:t>Seek feedback from CSOs and OFPs therough questionnaires </a:t>
            </a:r>
            <a:r>
              <a:rPr b="0" lang="en-GB" sz="2400" spc="-1" strike="noStrike">
                <a:solidFill>
                  <a:srgbClr val="ffffff"/>
                </a:solidFill>
                <a:latin typeface="Tahoma"/>
              </a:rPr>
              <a:t>and  through ECW and other meeting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411480" indent="-4114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rocess</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84000"/>
          </a:bodyPr>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Countries divided to two groups to examine the questions</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table should discuss the relevant questions and complete the hard copy of the questionnaire related to their topic.</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highlight selected key points from their table to the full meeting</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pass a copy of the completed questionnaire to the facilit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SO consultation prior to the 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one day Consultation was undertaken among CSOs prior to the ECW  mee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main issues and recommendations will be shared with the EC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FParish</cp:lastModifiedBy>
  <dcterms:modified xsi:type="dcterms:W3CDTF">2013-11-28T05:10:18Z</dcterms:modified>
  <cp:revision>83</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