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170B-11EA-4576-8CA4-A1D923D4E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4300-A019-4F06-8B3E-2A9506A00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8580-9892-4D44-B87F-26CED3A5E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E15B-4436-48A0-A1B7-A64075DE7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0655-824B-4154-805C-1A1FF5E73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ur la suite, nous ferons un exercice pratique basé sur les processus d'ACNR menés dans chacun de vos pays. Lire les instructions dans le document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6035-15B1-4B9F-897B-BC58685E5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D392-187C-47D6-80E2-7C1FAC39B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E4A6-AB51-41F0-9E41-E14B268F5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3B31-A597-4157-8D81-F64D5867C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916A-36E7-4F46-9875-A01024D0E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urs aux structures et mécanismes en place dans les p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ées sur le renforcement des capacités existan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ées à renforcer les capacités du système, de l'organisation et des individ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ées sur les synergies entre les Conventions de 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A854-AA3C-43EA-8FC6-043B05AA6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résultats et les enseignements tirés des processus d'ACNR ont été pris en compte dans l'élaboration de la Stratégie de renforcement des capacités transversales. Voici quelques-uns de ces résult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E26F-BC77-4C54-894A-0B3861C45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DA7F-126D-46CA-8E8D-94F8F2DB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F39-8FF2-46CD-92DC-5F842EDF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6F0-0F73-40F6-8CF0-166A1F3D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D72-6368-4AD4-885C-B49FAB70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3672-839C-4693-B5A4-FD46B56D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DBC-D22C-4732-A5E9-BEED4BD9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658-B8DF-4E61-BF77-B71AB153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0F3-4D8F-4540-9F06-82F34B93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6B1-6183-4235-B351-C802A570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702-BB23-4F42-9E6C-AF376073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1B3-5005-4E1D-972F-ACAE9608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D3E-6E1B-4F7B-A030-696AF2CA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021A-696C-4008-A381-3A7CC3B5B908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A745-C8F2-46E9-8108-03191624B67B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Atelier élargi pour la circonscription du F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1-3 octobre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HT" sz="2800" spc="-1" strike="noStrike">
                <a:solidFill>
                  <a:srgbClr val="898989"/>
                </a:solidFill>
                <a:latin typeface="Calibri"/>
              </a:rPr>
              <a:t>Abuja, Nig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ratégie de renforcement des capacités transversales – FEM-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914400" y="1447920"/>
            <a:ext cx="74674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er une approche de gestion adaptative et concertée de la conception et de l'exécution des projet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rer le renforcement des capacités en tenant compte des limites de la capacité d'absorption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éliorer la viabilité environnementale grâce à des lignes directrices et à de solides indicateurs de sui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Résultats des ANCR - Le fondement de la Stratégie pour FEM-5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Objectifs stratégiques du renforcement des capacités - FEM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1 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des différents acteurs à participer au processus de consultation (Initiative pour l’organisation d’ateliers de dialogue national, Agence de coordination des programmes, Programme de microfinancements, et projets dans les domaines d'interven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2 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Développer les connaissances et l'information, y accéder et les util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3 :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à élaborer les politiques publiques et les cadres législatifs voulus pour contribuer à améliorer l’état environnemental de la planè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4 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à gérer et à appliquer les directives reçues au titre des Con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7542"/>
                </a:solidFill>
                <a:latin typeface="Calibri"/>
                <a:ea typeface="ＭＳ Ｐゴシック"/>
              </a:rPr>
              <a:t>RC 5 :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fr-FR" sz="20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Renforcer la capacité à surveiller et évaluer les impacts sur l'environnement et l'évolution de la situation en la matièr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Cohérence avec les objectifs stratégiques du renforcement des capacités transsectorielles </a:t>
            </a:r>
            <a:r>
              <a:rPr b="0" i="1" lang="fr-FR" sz="19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fr-FR" sz="1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fr-FR" sz="19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Caractère multisectoriel (être bénéfiques dans au moins trois domaines d’interven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Identification des priorités dans le cadre des processus d'ANC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Inclusion des indicateurs pour mesurer les progrès et la réalisation des objectifs convenus dans les pays bénéfici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Indication des mesures pour assurer la viabil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Cofinancement (ratio de 1:1 au minim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95959"/>
                </a:solidFill>
                <a:latin typeface="Calibri"/>
              </a:rPr>
              <a:t>Projets de grande ou moyenne enverg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it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Critères généraux de recevabilité des projets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de renforcement des capac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Guinée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enforcement de la gestion décentralisée de l'environnement pour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épondre aux objectifs des conventions de 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ation de la gestion des données écologiques pour l'aménagemen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es zones côtières dans le droit fil des objectifs des Conventions de 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ation de la planification et de la prise de décision au niveau local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n contribuant à l'amélioration de l’état environnemental de la planè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Costa Rica 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Renforcement des capacités pour la prise en compte systématique des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objectifs des instruments multilatéraux sur l'environnement dans les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structures et mécanismes interministéri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e renforcement des capacités pour la planification stratégique et la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gestion des ressources naturelles au Beli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Exemples de projets de FEM-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76320" y="48769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renforçant les capacités-clés pour mettre en œuvre les accords multilatéraux sur l'environnement et intégrer le patrimoine mondial dans la prise de déc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0" y="763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nforcement des capacités transversale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les pays à atteindre et à maintenir les résultats environnementaux mondi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3200400" y="1539720"/>
            <a:ext cx="27432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1f497d"/>
                </a:solidFill>
                <a:latin typeface="Calibri"/>
              </a:rPr>
              <a:t>Preparation de la stratégie – FEM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intégrer les besoins environnementaux mondiaux dans les systèmes de gestion d'inform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renforcer les structures et mécanismes de consultation et de ges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intégrer les dispositions accords multilatéraux sur l'environnement dans les cadres politiques, législatives et réglementaires nationau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mettre en place des pilotes sur les outils économiques et financiers pour la mise en œuvre des Conven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ise à jour des ANC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Merci de votre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Des questions 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Fonds pour l’environnement mond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États-Unis</a:t>
            </a:r>
            <a:br>
              <a:rPr sz="1600"/>
            </a:br>
            <a:r>
              <a:rPr b="0" lang="en-US" sz="1400" spc="-1" strike="noStrike">
                <a:solidFill>
                  <a:srgbClr val="4d4d4d"/>
                </a:solidFill>
                <a:latin typeface="Calibri"/>
              </a:rPr>
              <a:t>Tél. : (202) 473-0508  Télécopie 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6858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Questions 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ls sont les besoins prioritaires du pays identifiés dans l'autoévaluation des capacités à renforcer ? Sont ces besoins toujours valid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oisir deux ou trois priorités à prendre en compte par le proj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À quels objectifs de la Stratégie de renforcement des capacités transversales le projet se rapportera-t-il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lles sont les composantes du projet 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els sont les effets positifs du projet pour l'environnement mondial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Exercice pratique – renforcement des capacités</a:t>
            </a:r>
            <a:r>
              <a:rPr b="1" lang="fr-FR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« Processus par lequel les individus, les organisations et les sociétés renforcent leur aptitude à s'attaquer aux problèmes environnementaux, aux questions de la gestion des ressources naturelles et à l'intégration  de la préservation de l'environnement dans les politiques, plans et décisions de développement.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Qu'entend-on par renforcement des capacités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niveau de l'individu : le processus par lequel le changement s'opère dans les attitudes et les comport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niveau de l'organisation : l'accent est mis sur les capacités fonctionnelles qui favorisent un changement au sein de l'organis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niveau du système : l'accent est mis sur les conditions propices du cadre (politiques, réglementation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alibri"/>
              </a:rPr>
              <a:t>Aspects du renforcement des capacités (R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renforcement des capacités (FEM/PNUD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che stratégique du renforcement des capacités (FEM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évaluations nationales des capacités à renforcer – ANCR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ui du programme institutionnel aux ANCR (FEM/PNUD/PNUE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Évolution chronologique du RC au F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APPROCHE STRATÉGIQUE DU RENFORCEMENT DES CAPACITÉS</a:t>
            </a:r>
            <a:br>
              <a:rPr sz="2400"/>
            </a:b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Quatre moyens de renforcer les capacités des pays à mettre en œuvre les Conventions de Rio (Dé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760920"/>
            <a:chOff x="609480" y="1676520"/>
            <a:chExt cx="8001000" cy="376092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7542"/>
                  </a:solidFill>
                  <a:latin typeface="Calibri"/>
                </a:rPr>
                <a:t>Renforcement des capacités (RC) par 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997360"/>
              <a:ext cx="198108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Autoévaluation nationale des capacités à renforc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997360"/>
              <a:ext cx="1673280" cy="244008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Plus grande attention accordée au RC dans chaque proje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800600" y="2997360"/>
              <a:ext cx="190476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Projets transsectoriels de R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95740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595959"/>
                  </a:solidFill>
                  <a:latin typeface="Calibri"/>
                </a:rPr>
                <a:t>Programmes cruciaux de RC dans les PMA et les PE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321280"/>
              <a:ext cx="721080" cy="600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Cadrage stratégique du renforcement des capacités (F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évaluation des capacités nationales à renforcer : </a:t>
            </a: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ésultats, enseignements tirés, opportunité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1D9E-58F0-4FB6-AD35-F287CA297EBD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2666880" y="1143000"/>
            <a:ext cx="335772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457200" y="2722680"/>
            <a:ext cx="1938240" cy="222840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95959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95959"/>
                </a:solidFill>
                <a:latin typeface="Calibri"/>
              </a:rPr>
              <a:t>Autoévaluations des capacités nationales à renfor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95959"/>
                </a:solidFill>
                <a:latin typeface="Calibri"/>
              </a:rPr>
              <a:t>(AN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200" spc="-1" strike="noStrike">
              <a:solidFill>
                <a:srgbClr val="59595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tinentes par rapport aux décisions des Conventions de 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ématiquement prises en compte dans les priorités de développement des p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otées par le pays, avec un engagement politique à haut niv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dées sur une vaste consultation avec divers acteurs pour la prise de dé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Modalités opérationnelles concernant les ANCR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urs aux structures et mécanismes en place dans les p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ées sur le renforcement des capacités exis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ées à renforcer les capacités du système, de l'organisation et des individ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ées sur les synergies entre les Conventions de 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Modalités opérationnelles concernant les ANCR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montrer la création de synergies pour donner suite aux priorités des Conventions de Rio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prouver et reproduire les outils innovants et les « meilleures pratiques »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égrer systématiquement la dimension de la protection de l'environnement mondial dans les politiques, législations et réglementation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Résultats des ANCR - Le fondement de la Stratégie pour FEM-5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Camila Perez Gabilondo</cp:lastModifiedBy>
  <cp:lastPrinted>2013-01-30T21:17:22Z</cp:lastPrinted>
  <dcterms:modified xsi:type="dcterms:W3CDTF">2013-09-25T19:11:42Z</dcterms:modified>
  <cp:revision>238</cp:revision>
  <dc:subject/>
  <dc:title>Slide 1</dc:title>
</cp:coreProperties>
</file>