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5F7E-6969-4664-A80B-DB3171D27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1E1-6AC0-4F63-ADCB-38B0C124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F27-1F77-4F4E-8744-C1E987F3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71C-C112-4996-903C-55E8FE39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D375-F0F5-4ED7-B009-44B2AC59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DA8-8876-4E0B-A11D-6F0F5CFA2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5F8D-F08F-4A1D-B6B7-D52AFE45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0A5-A42A-471A-BBD8-4C7DE8FBF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051-5265-44C0-8384-484E38A14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3DBB-823D-45D2-BBDF-B82D37CD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A0B-23BF-46F7-A0C7-CD278FD7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5F21-AF52-4A96-BB6D-5928AC66A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1CE-A95D-4316-9F11-959FFF00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E53A-8384-4271-A94C-E312D358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6C3D-9EE0-4B9C-95FD-C17DA1108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7E83-B5A6-4F4C-8700-207FBDEA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C4FC-CB5F-48BA-A1A0-912F15D3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C9FF-81CD-4ED2-8365-D2DC76B7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9F09-C977-465D-9033-D9F16829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E80-AFA3-4B47-A93D-79FE0DE5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8D1-C547-46EF-BD46-90170A4C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A85-FCC0-406D-9919-CB2487D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984-8F29-46D0-A2A0-6AF9AF43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2DB-2001-4EF3-8886-BD1EF483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808-C77F-474A-A43D-D8449E3F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B1E-6E2F-490D-B4AB-8475E53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00C-372F-4674-B32F-B62ACF0B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AAB-C3F0-4FDF-9CA2-FD3440CD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8C9-C026-4CA1-95B4-15E7B39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AA6-2775-4B71-A460-FC3E1535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7D6-F3A0-4AFE-B250-66CB5DD1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798-72E9-4470-AA94-E7895B14708C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D62-37C0-47C5-9ED4-72D878EA60B4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41907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pia, Samoa 15 to 17 October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571680" y="12193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ies must be enhanc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eng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ensure 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nd inform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re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environmental sustainability dim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policy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and evalu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 an ongoing exercise in order to ensure the validity and relevance of policy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-28440"/>
            <a:ext cx="9144000" cy="109512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lessons learned from NCSA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trengthening National and Decentralized Management for Global Environmen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ghani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ing Core Capacity for Decentralized MEA Implementation and Natur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ources Management in Afghan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ri Lan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suring global environmental concerns and best practices mainstreamed in th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-conflict rapid development process of Sri Lanka through improved informa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s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Initiative (GEF/UNDP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58B4-AC0D-4FCF-9A80-5368F4D424E4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management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capa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ypes of Capacities identified in NC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Robert T. Schreiber</cp:lastModifiedBy>
  <cp:lastPrinted>2013-01-30T21:17:22Z</cp:lastPrinted>
  <dcterms:modified xsi:type="dcterms:W3CDTF">2013-09-30T22:48:56Z</dcterms:modified>
  <cp:revision>287</cp:revision>
  <dc:subject/>
  <dc:title>Slide 1</dc:title>
</cp:coreProperties>
</file>