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5879-0428-482B-B636-AA1F82C106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14F2-9793-4090-B5A6-2A6CE5923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D7E6-1F0A-4346-9F16-78A8D061D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D75D-2CB8-4BAE-8CF7-7702A97CD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4DBC-782D-44B4-A7D3-77B168077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FEA0-3DF0-4E2A-A777-ABA90ED6B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26D2-4048-4295-943D-8166AF847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7392-C3DD-4E98-9C79-FCF2DB546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B5F5-9D9F-4FA3-BAFC-629D987C7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87B7-92D2-441A-8745-605935FED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8454-05A9-482E-BC97-81532B564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5346-DF8B-46B5-83DF-9073A9C18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B0C7-2537-42BF-B4F0-0CC4CD07A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52A5-1D96-4ACD-AFEC-5BD0C5272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ional Capacity Self-Assessments, a process which we will talk about in a few mo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development at the individual focal area pro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-Cutting Capacity Development, across focal areas (cross-cutting) as "a cost-effective means of addressing capacity building needs at a systemic or institutional level that are not unique to any one focal area, but will assist countries to manage global environmental issues in a more general way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ritical capacity development programs targeted towards LDCs and SIDs, many of which have chronically-low capacities for the governance and management of environmental management progra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7C66-B487-41C6-AB8A-0BE976561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94FE-E84A-4FA7-91EA-88E92D448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28B4-3C60-4327-9C4E-41ECDA801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1D62-5D39-4369-836F-E87AB81CB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9991-C826-4E57-AA8C-3FAA4701B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5A8C-DFE2-4CA7-A41A-09FDF0E2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C39C-A5B1-4798-AC85-26E5FDE5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2A59-5822-4BC9-BB3C-7AB5078B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8209-64CC-4F51-9423-6679D671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B5D3-F52E-45DE-B405-B0545D12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3186-99B0-465B-8587-3DB0E395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AF05-BB94-4CD3-8952-F5E467C1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6573-07E0-4F26-A6D1-362ADC6E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A259-C108-417B-BA9D-636D234B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8C98-D970-4245-95C8-025ADF5C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4BFD-F321-4443-BEFB-5C628F8D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4CB8-7FEE-40C2-A15E-2222A47E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6"/>
          <p:cNvGrpSpPr/>
          <p:nvPr/>
        </p:nvGrpSpPr>
        <p:grpSpPr>
          <a:xfrm>
            <a:off x="0" y="0"/>
            <a:ext cx="9144000" cy="1247760"/>
            <a:chOff x="0" y="0"/>
            <a:chExt cx="9144000" cy="1247760"/>
          </a:xfrm>
        </p:grpSpPr>
        <p:pic>
          <p:nvPicPr>
            <p:cNvPr id="40" name="Picture 5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7" descr="GEF-PPT-BG.png"/>
            <p:cNvPicPr/>
            <p:nvPr/>
          </p:nvPicPr>
          <p:blipFill>
            <a:blip r:embed="rId3"/>
            <a:stretch/>
          </p:blipFill>
          <p:spPr>
            <a:xfrm>
              <a:off x="11880" y="0"/>
              <a:ext cx="9119880" cy="61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GEF-PPT-BG.png"/>
          <p:cNvPicPr/>
          <p:nvPr/>
        </p:nvPicPr>
        <p:blipFill>
          <a:blip r:embed="rId2"/>
          <a:stretch/>
        </p:blipFill>
        <p:spPr>
          <a:xfrm>
            <a:off x="0" y="5610240"/>
            <a:ext cx="9144000" cy="1247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3E37-256D-43DA-94E9-EAD3507A20E4}" type="datetime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985E-331E-46B1-8429-C79320554109}" type="slidenum"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hegef.org/gef/GEF5_Capacity_Development_Strategy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14400" y="41907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GEF Expanded Constituency Worksh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Apia, Samoa 15 to 17 October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Cross-Cutting Capacity Development Strategy – GEF 5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4"/>
          <p:cNvSpPr/>
          <p:nvPr/>
        </p:nvSpPr>
        <p:spPr>
          <a:xfrm>
            <a:off x="990720" y="1676520"/>
            <a:ext cx="73911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and international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governance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ing of the environmental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creation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awareness and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 and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9 countries out of a total of 1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apacity development needs identified in the NC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3"/>
          <p:cNvSpPr/>
          <p:nvPr/>
        </p:nvSpPr>
        <p:spPr>
          <a:xfrm>
            <a:off x="571680" y="12193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ies must be enhanc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keholder engage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rder to ensure legitim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and inform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reate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al 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 the environmental sustainability dimen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o policy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 and evalu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s as an ongoing exercise in order to ensure the validity and relevance of policy and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3"/>
          <p:cNvSpPr/>
          <p:nvPr/>
        </p:nvSpPr>
        <p:spPr>
          <a:xfrm>
            <a:off x="0" y="-28440"/>
            <a:ext cx="9144000" cy="109512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ome lessons learned from NCSA exerci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3"/>
          <p:cNvSpPr/>
          <p:nvPr/>
        </p:nvSpPr>
        <p:spPr>
          <a:xfrm>
            <a:off x="914400" y="1447920"/>
            <a:ext cx="7467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 creation of synergies to meet the priorities of the Rio Convent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and replicate innovative tools and “best practices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 the global environmental dimension into national policies and legislative and regulatory framework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3"/>
          <p:cNvSpPr/>
          <p:nvPr/>
        </p:nvSpPr>
        <p:spPr>
          <a:xfrm>
            <a:off x="914400" y="1447920"/>
            <a:ext cx="746748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 an adaptive and collaborative management approach in the design and execution of projec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capacity development in the light of limitations of absorption capac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environmental sustainability through monitoring guidelines and strong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CSA results – The basis for GEF 5 Strategy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trategic objectives of capacity development - GE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ontent Placeholder 2"/>
          <p:cNvSpPr/>
          <p:nvPr/>
        </p:nvSpPr>
        <p:spPr>
          <a:xfrm>
            <a:off x="304920" y="914400"/>
            <a:ext cx="82296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the capacities of stakeholders to engage throughout the consultative process </a:t>
            </a:r>
            <a:r>
              <a:rPr b="0" lang="en-US" sz="2400" spc="-1" strike="noStrike">
                <a:solidFill>
                  <a:srgbClr val="595959"/>
                </a:solidFill>
                <a:latin typeface="Times New Roman"/>
                <a:ea typeface="ＭＳ Ｐゴシック"/>
              </a:rPr>
              <a:t>(National Dialogue Initiative, Program Coordination Agency, Small Grants Program and focal area pro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generate, access and use information a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3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strengthen capacities to develop policy and legislative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o strengthen capacities to implement and manage global convention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542"/>
                </a:solidFill>
                <a:latin typeface="Times New Roman"/>
                <a:ea typeface="ＭＳ Ｐゴシック"/>
              </a:rPr>
              <a:t>CD 5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To enhance capacities to monitor and evaluate environmental impacts and tr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nsistency with GEF strategic objectives of cross-cutting capacity development 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hegef.org/gef/GEF5_Capacity_Development_Strategy</a:t>
            </a:r>
            <a:r>
              <a:rPr b="0" i="1" lang="en-US" sz="2000" spc="-1" strike="noStrike" u="sng">
                <a:solidFill>
                  <a:srgbClr val="595959"/>
                </a:solidFill>
                <a:uFillTx/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ulti-focal (benefit at least three focal are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Priorities were identified in NCSA exerci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Indicators are included for measuring progress and attainment of objectives agreed in beneficiary countr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asures are specified to ensure sustain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Co-financing (at least 1:1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alibri"/>
              </a:rPr>
              <a:t>Medium-Sized or Full-Siz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General requirements for CCCD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ôte d’Ivoir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rengthened Environmental Management Information System for Coast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ment to meet Rio Convention Objecti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urkina Faso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enerating Global Environmental Benefits from Improved Local Planning and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cision-making Systems in Burkina Fas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Ukraine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tegrating Rio Convention Provisions into Ukraine's National Environmental Policy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ramew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ogo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Strengthening National and Decentralized Management for Global Environment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sta Ric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pacity Building for Mainstreaming MEA Objectives into Inter-ministeri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ructures and Mechanis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fghanistan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ing Core Capacity for Decentralized MEA Implementation and Natural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sources Management in Afghanis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ri Lank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nsuring global environmental concerns and best practices mainstreamed in the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ost-conflict rapid development process of Sri Lanka through improved information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Examples of GEF 5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66400" y="4876920"/>
            <a:ext cx="887724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trengthening key capacities to implement the MEA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stream the global commons into 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0" y="7632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-Cutting Capacity Develop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countries meet and sustain global environmental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-152280" y="44197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2895480" y="1042920"/>
            <a:ext cx="321624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Draft Strategy– GEF6</a:t>
            </a:r>
            <a:endParaRPr b="1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global environmental needs into management information syste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trengthen consultative and management structures and mechanis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tegrate Multilateral Environmental Agreements’ provisions within national policy, legislative, and regulatory framework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ilot innovative economic and financial tools for Conventions implement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dating of NCS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itle 3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itle 3"/>
          <p:cNvSpPr/>
          <p:nvPr/>
        </p:nvSpPr>
        <p:spPr>
          <a:xfrm>
            <a:off x="0" y="22860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d4d4d"/>
                </a:solidFill>
                <a:latin typeface="Calibri"/>
              </a:rPr>
              <a:t>Any question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tle 3"/>
          <p:cNvSpPr/>
          <p:nvPr/>
        </p:nvSpPr>
        <p:spPr>
          <a:xfrm>
            <a:off x="1447920" y="4572000"/>
            <a:ext cx="6629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42d"/>
                </a:solidFill>
                <a:latin typeface="Calibri"/>
              </a:rPr>
              <a:t>The Global Environment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1818 H Street, NW, Mail Stop P4-400 - Washington, DC 20433 USA</a:t>
            </a:r>
            <a:br>
              <a:rPr sz="1400"/>
            </a:br>
            <a:r>
              <a:rPr b="0" lang="pt-BR" sz="1400" spc="-1" strike="noStrike">
                <a:solidFill>
                  <a:srgbClr val="4d4d4d"/>
                </a:solidFill>
                <a:latin typeface="Calibri"/>
              </a:rPr>
              <a:t>Tel: (202) 473-0508  Fax: (202) 522-3240/32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642d"/>
                </a:solidFill>
                <a:latin typeface="Calibri"/>
              </a:rPr>
              <a:t>www.thegef.org  / secretariat@thegef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cess by which individuals, organizations and societies strengthen their ability to address environmental issues, manage natural resource issues, and mainstream environmental sustainability into development policies, plans and decision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hat is meant by capacity development (CD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alibri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untry’s priority capacity needs as identified in the Needs Self-Assessment exercise? Are those capacity needs still vali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hoose two or three priorities to be addressed in a Hypothetical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To what objectives of the Cross-Cutting Capacity Development Strategy would the project rel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What are the components of the project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ractical exercise – Capacity development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individual level: the process by which a change in attitudes and behaviors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organizational level: the focus is on functional capacities allowing for organizational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system level: the focus is on the enabling environment (i.e. policy, regulation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Dimensions of CC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5"/>
          <p:cNvSpPr/>
          <p:nvPr/>
        </p:nvSpPr>
        <p:spPr>
          <a:xfrm>
            <a:off x="420840" y="1371600"/>
            <a:ext cx="83008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Initiative (GEF/UNDP,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Capacity Self-Assessments – NCSA (2002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ic Approach for Capacity Development (GEF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rom the corporate program for NCSAs (GEF/UNDP/UNEP, 2005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ime line of CD in the G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656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GEF STRATEGIC APPROACH TO CAPACITY BUILDING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Four pathways to develop countries’ capacity to implement the Rio Conventions (Council Decision C/22.8)</a:t>
            </a:r>
            <a:endParaRPr b="1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77" name="Group 13"/>
          <p:cNvGrpSpPr/>
          <p:nvPr/>
        </p:nvGrpSpPr>
        <p:grpSpPr>
          <a:xfrm>
            <a:off x="609480" y="1676520"/>
            <a:ext cx="8001000" cy="3272760"/>
            <a:chOff x="609480" y="1676520"/>
            <a:chExt cx="8001000" cy="3272760"/>
          </a:xfrm>
        </p:grpSpPr>
        <p:sp>
          <p:nvSpPr>
            <p:cNvPr id="178" name="Text Box 3"/>
            <p:cNvSpPr/>
            <p:nvPr/>
          </p:nvSpPr>
          <p:spPr>
            <a:xfrm>
              <a:off x="993960" y="1676520"/>
              <a:ext cx="7385760" cy="368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542"/>
                  </a:solidFill>
                  <a:latin typeface="Calibri"/>
                </a:rPr>
                <a:t>Capacity Development (CD) through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609480" y="2722680"/>
              <a:ext cx="1785960" cy="1769760"/>
            </a:xfrm>
            <a:prstGeom prst="rect">
              <a:avLst/>
            </a:prstGeom>
            <a:solidFill>
              <a:srgbClr val="007542">
                <a:alpha val="22000"/>
              </a:srgbClr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1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  <a:ea typeface="Arial"/>
                </a:rPr>
                <a:t>National Capacity Self-Assessments (NCSAs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2808000" y="2722680"/>
              <a:ext cx="1673280" cy="210492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2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Greater attention to CD in individual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6"/>
            <p:cNvSpPr/>
            <p:nvPr/>
          </p:nvSpPr>
          <p:spPr>
            <a:xfrm>
              <a:off x="4917960" y="2722680"/>
              <a:ext cx="1711080" cy="176976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3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Cross-cutting CD proje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"/>
            <p:cNvSpPr/>
            <p:nvPr/>
          </p:nvSpPr>
          <p:spPr>
            <a:xfrm>
              <a:off x="6977160" y="2690640"/>
              <a:ext cx="1633320" cy="2258640"/>
            </a:xfrm>
            <a:prstGeom prst="rect">
              <a:avLst/>
            </a:prstGeom>
            <a:solidFill>
              <a:srgbClr val="f2f2f2"/>
            </a:solidFill>
            <a:ln w="1908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595959"/>
                  </a:solidFill>
                  <a:latin typeface="Calibri"/>
                </a:rPr>
                <a:t>4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95959"/>
                  </a:solidFill>
                  <a:latin typeface="Calibri"/>
                </a:rPr>
                <a:t>Critical Programs for CD in LDCs &amp; SI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112860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>
              <a:off x="32011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0"/>
            <p:cNvSpPr/>
            <p:nvPr/>
          </p:nvSpPr>
          <p:spPr>
            <a:xfrm>
              <a:off x="52783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7355520" y="2187360"/>
              <a:ext cx="721080" cy="475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7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trategic focus for CD (GE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7600" y="2971800"/>
            <a:ext cx="5486400" cy="31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onal Capacity Self-Assessments: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, Lessons Learned, Opportunities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BD07-7227-4DDC-B7F0-762516A2C0FA}" type="slidenum">
              <a:rPr b="0" lang="fr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NCSA SR cover.jpg"/>
          <p:cNvPicPr/>
          <p:nvPr/>
        </p:nvPicPr>
        <p:blipFill>
          <a:blip r:embed="rId1"/>
          <a:stretch/>
        </p:blipFill>
        <p:spPr>
          <a:xfrm>
            <a:off x="2666880" y="1143000"/>
            <a:ext cx="3357720" cy="4343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609480" y="2722680"/>
            <a:ext cx="1785960" cy="2104920"/>
          </a:xfrm>
          <a:prstGeom prst="rect">
            <a:avLst/>
          </a:prstGeom>
          <a:solidFill>
            <a:srgbClr val="007542">
              <a:alpha val="22000"/>
            </a:srgbClr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National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Self-Assess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Calibri"/>
                <a:ea typeface="Arial"/>
              </a:rPr>
              <a:t>(NCS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1128600" y="2187720"/>
            <a:ext cx="720720" cy="476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75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3"/>
          <p:cNvSpPr/>
          <p:nvPr/>
        </p:nvSpPr>
        <p:spPr>
          <a:xfrm>
            <a:off x="304920" y="914400"/>
            <a:ext cx="78483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vant to the decisions i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streaming into the country’s development prio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rheaded by the country, with a high-level political commi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extensive consultation of the various players for decision-m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304920" y="914400"/>
            <a:ext cx="784836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spAutoFit/>
          </a:bodyPr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xisting structures and mechanisms in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development of existing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to strengthen system, organization and individual capac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lecting synergies between the Rio Conven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perational guidelines for NCSAs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keholder eng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on management and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zational capac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ironmental gover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and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it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64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ypes of Capacities identified in NCS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22:28:47Z</dcterms:created>
  <dc:creator>wb350798</dc:creator>
  <dc:description/>
  <dc:language>en-US</dc:language>
  <cp:lastModifiedBy>Robert T. Schreiber</cp:lastModifiedBy>
  <cp:lastPrinted>2013-01-30T21:17:22Z</cp:lastPrinted>
  <dcterms:modified xsi:type="dcterms:W3CDTF">2013-09-30T22:48:56Z</dcterms:modified>
  <cp:revision>287</cp:revision>
  <dc:subject/>
  <dc:title>Slide 1</dc:title>
</cp:coreProperties>
</file>