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4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16D7C-137D-485C-9215-64E9BA9231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6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0409E-418F-46F0-A6B3-822728CF7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DC4F8-DCD7-4C67-8061-5C9F96615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CCE6-975F-451E-A47A-B35174118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0B376-8697-4E8C-94B8-2FC010487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EF9B1-B955-4342-8E87-2E7640964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BBEC-730C-4C36-AFAE-AD1AE3715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43041-736E-4794-BB55-D6D96479B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9B84-5C84-451F-B530-3D0E4C3C4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5D7EA-58C3-4112-A2CA-639D339F1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E846C-6A73-494B-9535-45E64CF4E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AF16E-AB0C-4D11-994B-E220A024F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4871-DBC3-4276-ABFE-EBB81E164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4124F-7DA8-4E65-92C7-3B8353225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09692-C443-42A5-8BC1-C738A313A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1E97C-1E70-468E-9DCE-3FB1705E0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35FAF-86AD-4D54-AAE1-63162D505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FD05C-4CAF-47EA-AEB7-7F6C68782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F6D05-DA70-4C6E-B094-F508E64A8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0462-B071-4CE0-B69E-D951D7EA4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46CA-57A2-4096-A856-2330C15AB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A685-BC38-419B-8CF2-D6CFB946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7923-4AF5-4D3D-A5E9-E297E7442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B3B6-0EB6-4FC5-A32C-44C946E89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AFB6-C720-4A1B-B61C-07EA7EA9A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C998-23A4-4347-9282-D4E47D65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BDCE-57C6-448C-B813-1D135815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A255-B195-4A95-8583-842272F5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D9A6-AB48-47F3-927E-359D22E4B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E780-1ADC-42B2-A953-A0FCD024F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6F30-7F52-4F66-B49D-AA9AB8E4E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4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6"/>
          <p:cNvGrpSpPr/>
          <p:nvPr/>
        </p:nvGrpSpPr>
        <p:grpSpPr>
          <a:xfrm>
            <a:off x="0" y="0"/>
            <a:ext cx="9144000" cy="1247760"/>
            <a:chOff x="0" y="0"/>
            <a:chExt cx="9144000" cy="1247760"/>
          </a:xfrm>
        </p:grpSpPr>
        <p:pic>
          <p:nvPicPr>
            <p:cNvPr id="40" name="Picture 5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7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0"/>
              <a:ext cx="9119880" cy="61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7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62B8F-AEA5-46E5-A368-C70AB3B2069E}" type="datetime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372B5-14D7-4682-82D0-D7B5918F7609}" type="slidenum"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thegef.org/gef/GEF5_Capacity_Development_Strategy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91440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 </a:t>
            </a: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Pilar Barre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Operations officer Civil Society/Capacity Develop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Expanded Constituency Worksh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Abuja, Nigeria October 2, 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251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Cross-Cutting Capacity Development Strategy – GEF 5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3"/>
          <p:cNvSpPr/>
          <p:nvPr/>
        </p:nvSpPr>
        <p:spPr>
          <a:xfrm>
            <a:off x="914400" y="1447920"/>
            <a:ext cx="7467480" cy="32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opt an adaptive and collaborative management approach in the design and execution of project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capacity development in the light of limitations of absorption capacit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hance environmental sustainability through monitoring guidelines and strong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NCSA results – The basis for GEF 5 Strategy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Strategic objectives of capacity development - GE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Content Placeholder 2"/>
          <p:cNvSpPr/>
          <p:nvPr/>
        </p:nvSpPr>
        <p:spPr>
          <a:xfrm>
            <a:off x="304920" y="914400"/>
            <a:ext cx="822960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42"/>
                </a:solidFill>
                <a:latin typeface="Times New Roman"/>
                <a:ea typeface="ＭＳ Ｐゴシック"/>
              </a:rPr>
              <a:t>CD 1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To enhance the capacities of stakeholders to engage throughout the consultative process </a:t>
            </a:r>
            <a:r>
              <a:rPr b="0" lang="en-US" sz="2400" spc="-1" strike="noStrike">
                <a:solidFill>
                  <a:srgbClr val="595959"/>
                </a:solidFill>
                <a:latin typeface="Times New Roman"/>
                <a:ea typeface="ＭＳ Ｐゴシック"/>
              </a:rPr>
              <a:t>(National Dialogue Initiative, Program Coordination Agency, Small Grants Program and focal area projec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42"/>
                </a:solidFill>
                <a:latin typeface="Times New Roman"/>
                <a:ea typeface="ＭＳ Ｐゴシック"/>
              </a:rPr>
              <a:t>CD 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To generate, access and use information and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42"/>
                </a:solidFill>
                <a:latin typeface="Times New Roman"/>
                <a:ea typeface="ＭＳ Ｐゴシック"/>
              </a:rPr>
              <a:t>CD 3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 strengthen capacities to develop policy and legislative frame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42"/>
                </a:solidFill>
                <a:latin typeface="Times New Roman"/>
                <a:ea typeface="ＭＳ Ｐゴシック"/>
              </a:rPr>
              <a:t>CD 4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To strengthen capacities to implement and manage global convention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42"/>
                </a:solidFill>
                <a:latin typeface="Times New Roman"/>
                <a:ea typeface="ＭＳ Ｐゴシック"/>
              </a:rPr>
              <a:t>CD 5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To enhance capacities to monitor and evaluate environmental impacts and tre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Consistency with GEF strategic objectives of cross-cutting capacity development </a:t>
            </a:r>
            <a:r>
              <a:rPr b="0" i="1" lang="en-US" sz="2000" spc="-1" strike="noStrike" u="sng">
                <a:solidFill>
                  <a:srgbClr val="595959"/>
                </a:solidFill>
                <a:uFillTx/>
                <a:latin typeface="Calibri"/>
              </a:rPr>
              <a:t>(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thegef.org/gef/GEF5_Capacity_Development_Strategy</a:t>
            </a:r>
            <a:r>
              <a:rPr b="0" i="1" lang="en-US" sz="2000" spc="-1" strike="noStrike" u="sng">
                <a:solidFill>
                  <a:srgbClr val="595959"/>
                </a:solidFill>
                <a:uFillTx/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Multi-focal (benefit at least three focal area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Priorities were identified in NCSA exercis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Indicators are included for measuring progress and attainment of objectives agreed in beneficiary countr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Measures are specified to ensure sustainabi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Co-financing (at least 1:1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Medium-Sized or Full-Sized projec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General requirements for CCCD pro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57200" y="6854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uinea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trengthening Decentralized Management of the Environment to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et  Rio Convention Objecti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ôte d’Ivoir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trengthened Environmental Management Information System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r  Coastal  Development to meet Rio Convention Objecti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urkina Faso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ting Global Environmental Benefits from Improved Local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anning and Decision-making Systems in Burkina Fas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sta Rica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pacity Building for Mainstreaming MEA Objectives into Inter-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inisterial Structures and Mechanis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eliz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pacity building for the strategic planning and management of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atural resources in Beliz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Examples of GEF 5 pro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266400" y="4876920"/>
            <a:ext cx="8877240" cy="150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strengthening key capacities to implement the MEAs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stream the global commons into decision ma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3"/>
          <p:cNvSpPr/>
          <p:nvPr/>
        </p:nvSpPr>
        <p:spPr>
          <a:xfrm>
            <a:off x="0" y="76320"/>
            <a:ext cx="91440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oss-Cutting Capacity Develop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countries meet and sustain global environmental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4"/>
          <p:cNvSpPr/>
          <p:nvPr/>
        </p:nvSpPr>
        <p:spPr>
          <a:xfrm>
            <a:off x="-152280" y="4419720"/>
            <a:ext cx="899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6" descr=""/>
          <p:cNvPicPr/>
          <p:nvPr/>
        </p:nvPicPr>
        <p:blipFill>
          <a:blip r:embed="rId1"/>
          <a:stretch/>
        </p:blipFill>
        <p:spPr>
          <a:xfrm>
            <a:off x="2895480" y="1042920"/>
            <a:ext cx="3216240" cy="33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Draft Strategy– GEF6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integrate global environmental needs into management information system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strengthen consultative and management structures and mechanism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integrate Multilateral Environmental Agreements’ provisions within national policy, legislative, and regulatory frameworks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pilot innovative economic and financial tools for Convention implementa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pdating of NCSA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itle 3"/>
          <p:cNvSpPr/>
          <p:nvPr/>
        </p:nvSpPr>
        <p:spPr>
          <a:xfrm>
            <a:off x="0" y="1295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42d"/>
                </a:solidFill>
                <a:latin typeface="Calibri"/>
              </a:rPr>
              <a:t>Thank you for your atten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itle 3"/>
          <p:cNvSpPr/>
          <p:nvPr/>
        </p:nvSpPr>
        <p:spPr>
          <a:xfrm>
            <a:off x="0" y="22860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4d4d4d"/>
                </a:solidFill>
                <a:latin typeface="Calibri"/>
              </a:rPr>
              <a:t>Any questions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itle 3"/>
          <p:cNvSpPr/>
          <p:nvPr/>
        </p:nvSpPr>
        <p:spPr>
          <a:xfrm>
            <a:off x="1447920" y="4572000"/>
            <a:ext cx="6629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42d"/>
                </a:solidFill>
                <a:latin typeface="Calibri"/>
              </a:rPr>
              <a:t>The Global Environment Fac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d4d4d"/>
                </a:solidFill>
                <a:latin typeface="Calibri"/>
              </a:rPr>
              <a:t>1818 H Street, NW, Mail Stop P4-400 - Washington, DC 20433 USA</a:t>
            </a:r>
            <a:br>
              <a:rPr sz="1400"/>
            </a:br>
            <a:r>
              <a:rPr b="0" lang="pt-BR" sz="1400" spc="-1" strike="noStrike">
                <a:solidFill>
                  <a:srgbClr val="4d4d4d"/>
                </a:solidFill>
                <a:latin typeface="Calibri"/>
              </a:rPr>
              <a:t>Tel: (202) 473-0508  Fax: (202) 522-3240/32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642d"/>
                </a:solidFill>
                <a:latin typeface="Calibri"/>
              </a:rPr>
              <a:t>www.thegef.org  / secretariat@thegef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7200" y="6854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alibri"/>
              </a:rPr>
              <a:t>Ques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What are the country’s priority capacity needs as identified in the Needs Self-Assessment exercise? Are those capacity needs still vali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Choose two or three priorities to be addressed in a Hypothetical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To what objectives of the Cross-Cutting Capacity Development Strategy would the project relat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What are the components of the project?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Practical exercise – Capacity development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rocess by which individuals, organizations and societies strengthen their ability to address environmental issues, manage natural resource issues, and mainstream environmental sustainability into development policies, plans and decisions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What is meant by capacity development (CD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the individual level: the process by which a change in attitudes and behaviors occu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the organizational level: the focus is on functional capacities allowing for organizational chan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the system level: the focus is on the enabling environment (i.e. policy, regulation, etc.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Dimensions of CCC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5"/>
          <p:cNvSpPr/>
          <p:nvPr/>
        </p:nvSpPr>
        <p:spPr>
          <a:xfrm>
            <a:off x="420840" y="1371600"/>
            <a:ext cx="8300880" cy="43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Capacit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Development Initiative (GEF/UNDP, 199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National Capacity Self-Assessments – NCSA (2002-20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trategic Approach for Capacity Development (GEF, 200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upport from the corporate program for NCSAs (GEF/UNDP/UNEP, 2005-20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Time line of CD in the GE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65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GEF STRATEGIC APPROACH TO CAPACITY BUILDING</a:t>
            </a:r>
            <a:br>
              <a:rPr sz="2400"/>
            </a:b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Four pathways to develop countries’ capacity to implement the Rio Conventions (Council Decision C/22.8)</a:t>
            </a:r>
            <a:endParaRPr b="1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grpSp>
        <p:nvGrpSpPr>
          <p:cNvPr id="177" name="Group 13"/>
          <p:cNvGrpSpPr/>
          <p:nvPr/>
        </p:nvGrpSpPr>
        <p:grpSpPr>
          <a:xfrm>
            <a:off x="609480" y="1676520"/>
            <a:ext cx="8001000" cy="3272760"/>
            <a:chOff x="609480" y="1676520"/>
            <a:chExt cx="8001000" cy="3272760"/>
          </a:xfrm>
        </p:grpSpPr>
        <p:sp>
          <p:nvSpPr>
            <p:cNvPr id="178" name="Text Box 3"/>
            <p:cNvSpPr/>
            <p:nvPr/>
          </p:nvSpPr>
          <p:spPr>
            <a:xfrm>
              <a:off x="993960" y="1676520"/>
              <a:ext cx="7385760" cy="3682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542"/>
                  </a:solidFill>
                  <a:latin typeface="Calibri"/>
                </a:rPr>
                <a:t>Capacity Development (CD) through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4"/>
            <p:cNvSpPr/>
            <p:nvPr/>
          </p:nvSpPr>
          <p:spPr>
            <a:xfrm>
              <a:off x="609480" y="2722680"/>
              <a:ext cx="1785960" cy="1769760"/>
            </a:xfrm>
            <a:prstGeom prst="rect">
              <a:avLst/>
            </a:prstGeom>
            <a:solidFill>
              <a:srgbClr val="007542">
                <a:alpha val="22000"/>
              </a:srgbClr>
            </a:solidFill>
            <a:ln w="1908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  <a:ea typeface="Arial"/>
                </a:rPr>
                <a:t>1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  <a:ea typeface="Arial"/>
                </a:rPr>
                <a:t>National Capacity Self-Assessments (NCSAs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"/>
            <p:cNvSpPr/>
            <p:nvPr/>
          </p:nvSpPr>
          <p:spPr>
            <a:xfrm>
              <a:off x="2808000" y="2722680"/>
              <a:ext cx="1673280" cy="2104920"/>
            </a:xfrm>
            <a:prstGeom prst="rect">
              <a:avLst/>
            </a:prstGeom>
            <a:solidFill>
              <a:srgbClr val="f2f2f2"/>
            </a:solidFill>
            <a:ln w="1908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</a:rPr>
                <a:t>2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</a:rPr>
                <a:t>Greater attention to CD in individual project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6"/>
            <p:cNvSpPr/>
            <p:nvPr/>
          </p:nvSpPr>
          <p:spPr>
            <a:xfrm>
              <a:off x="4917960" y="2722680"/>
              <a:ext cx="1711080" cy="1769760"/>
            </a:xfrm>
            <a:prstGeom prst="rect">
              <a:avLst/>
            </a:prstGeom>
            <a:solidFill>
              <a:srgbClr val="f2f2f2"/>
            </a:solidFill>
            <a:ln w="1908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</a:rPr>
                <a:t>3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</a:rPr>
                <a:t>Cross-cutting CD project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7"/>
            <p:cNvSpPr/>
            <p:nvPr/>
          </p:nvSpPr>
          <p:spPr>
            <a:xfrm>
              <a:off x="6977160" y="2690640"/>
              <a:ext cx="1633320" cy="2258640"/>
            </a:xfrm>
            <a:prstGeom prst="rect">
              <a:avLst/>
            </a:prstGeom>
            <a:solidFill>
              <a:srgbClr val="f2f2f2"/>
            </a:solidFill>
            <a:ln w="1908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</a:rPr>
                <a:t>4.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95959"/>
                  </a:solidFill>
                  <a:latin typeface="Calibri"/>
                </a:rPr>
                <a:t>Critical Programs for CD in LDCs &amp; SI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8"/>
            <p:cNvSpPr/>
            <p:nvPr/>
          </p:nvSpPr>
          <p:spPr>
            <a:xfrm>
              <a:off x="1128600" y="2187360"/>
              <a:ext cx="721080" cy="475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7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9"/>
            <p:cNvSpPr/>
            <p:nvPr/>
          </p:nvSpPr>
          <p:spPr>
            <a:xfrm>
              <a:off x="3201120" y="2187360"/>
              <a:ext cx="721080" cy="475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7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0"/>
            <p:cNvSpPr/>
            <p:nvPr/>
          </p:nvSpPr>
          <p:spPr>
            <a:xfrm>
              <a:off x="5278320" y="2187360"/>
              <a:ext cx="721080" cy="475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7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11"/>
            <p:cNvSpPr/>
            <p:nvPr/>
          </p:nvSpPr>
          <p:spPr>
            <a:xfrm>
              <a:off x="7355520" y="2187360"/>
              <a:ext cx="721080" cy="475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7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Strategic focus for CD (GEF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657600" y="2971800"/>
            <a:ext cx="5486400" cy="317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ional Capacity Self-Assessments: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lts, Lessons Learned, Opportunities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9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A659-A419-47BE-964C-C799C1E79DEB}" type="slidenum">
              <a:rPr b="0" lang="fr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NCSA SR cover.jpg"/>
          <p:cNvPicPr/>
          <p:nvPr/>
        </p:nvPicPr>
        <p:blipFill>
          <a:blip r:embed="rId1"/>
          <a:stretch/>
        </p:blipFill>
        <p:spPr>
          <a:xfrm>
            <a:off x="4648320" y="1108080"/>
            <a:ext cx="3357360" cy="43434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4"/>
          <p:cNvSpPr/>
          <p:nvPr/>
        </p:nvSpPr>
        <p:spPr>
          <a:xfrm>
            <a:off x="609480" y="2722680"/>
            <a:ext cx="1785960" cy="2104920"/>
          </a:xfrm>
          <a:prstGeom prst="rect">
            <a:avLst/>
          </a:prstGeom>
          <a:solidFill>
            <a:srgbClr val="007542">
              <a:alpha val="22000"/>
            </a:srgbClr>
          </a:solidFill>
          <a:ln w="19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bri"/>
                <a:ea typeface="Arial"/>
              </a:rPr>
              <a:t>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bri"/>
                <a:ea typeface="Arial"/>
              </a:rPr>
              <a:t>National Capac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bri"/>
                <a:ea typeface="Arial"/>
              </a:rPr>
              <a:t>Self-Assess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bri"/>
                <a:ea typeface="Arial"/>
              </a:rPr>
              <a:t>(NCS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1128600" y="2187720"/>
            <a:ext cx="720720" cy="476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75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Box 3"/>
          <p:cNvSpPr/>
          <p:nvPr/>
        </p:nvSpPr>
        <p:spPr>
          <a:xfrm>
            <a:off x="304920" y="914400"/>
            <a:ext cx="7848360" cy="44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evant to the decisions in the Rio Conven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streaming into the country’s development prior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arheaded by the country, with a high-level political commit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on extensive consultation of the various players for decision-ma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Operational guidelines for NCSAs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Box 3"/>
          <p:cNvSpPr/>
          <p:nvPr/>
        </p:nvSpPr>
        <p:spPr>
          <a:xfrm>
            <a:off x="304920" y="914400"/>
            <a:ext cx="7848360" cy="39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xisting structures and mechanisms in count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on development of existing capac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ed to strengthen system, organization and individual capac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lecting synergies between the Rio Conven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Operational guidelines for NCSAs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3"/>
          <p:cNvSpPr/>
          <p:nvPr/>
        </p:nvSpPr>
        <p:spPr>
          <a:xfrm>
            <a:off x="914400" y="1447920"/>
            <a:ext cx="7467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e creation of synergies to meet the priorities of the Rio Convention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and replicate innovative tools and “best practices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stream the global environmental dimension into national policies and legislative and regulatory framework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NCSA results – The basis for GEF 5 Strategy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0T22:28:47Z</dcterms:created>
  <dc:creator>wb350798</dc:creator>
  <dc:description/>
  <dc:language>en-US</dc:language>
  <cp:lastModifiedBy>Maria Camila Perez Gabilondo</cp:lastModifiedBy>
  <cp:lastPrinted>2013-08-15T21:04:24Z</cp:lastPrinted>
  <dcterms:modified xsi:type="dcterms:W3CDTF">2013-09-25T19:11:44Z</dcterms:modified>
  <cp:revision>298</cp:revision>
  <dc:subject/>
  <dc:title>Slide 1</dc:title>
</cp:coreProperties>
</file>