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ADBB-1274-4C0E-B94D-B01057136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2117-8221-4FB4-BDB5-8AE3A0371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4A81-E2CA-41EC-829E-BC8C0CE9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27D4-F437-44BA-AA56-787EFEAA1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116A-7951-4ED2-87E0-0A30818BE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CD64-0266-4FE7-8337-8D9D1BA4C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2D61-40CE-472D-9DFC-F7C0F438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8FE8-5FA4-4116-A219-DE9A93888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28A7-7901-413E-AB45-861E63ED1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F06E-BCED-4F0A-8B0E-13E886AA6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B46B-EACB-4735-BFEB-584E9EDF4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3FC6-65E5-4C79-B85F-BC1FA119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EA63-A686-4CE3-85D9-95531541C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ECDB-22C9-4F5F-B28B-E63F105D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9E5A-CBFC-4639-87F2-97860BDC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53A7-EAF4-47C6-AE68-513EEDB6C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8FB9-9F5B-44EE-BCD6-B091B246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6EF3-87A5-49C1-8D52-1F7403FB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D27D-ADBB-4EB5-9258-A0B95002A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917-1B5F-4B0B-A510-EFCDC1A0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AA8-3CB7-4655-965E-CB342723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206-34AD-46F8-B5CE-A49AFD30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5B8-989A-4A38-80FB-1B1F6054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15C-21BB-4838-A255-F24EE11E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EA0-9F15-4F00-B327-5CE421BF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495-714A-45F1-8B52-949EA2A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D78-0DE9-42CD-8B89-4EE11E1F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6B7-B8D5-4CB4-A3FB-2207F36F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E74-C7FF-42A4-BD8A-6697900F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C10-6EE2-43DE-BFB5-E1385C32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587-0EE9-4992-B16A-36B231DA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F307-9722-4770-BEBD-5E04F8E978BD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60A2-9ABC-4F39-BADB-7364923AF456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Pilar Barr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Operations officer Civil Society/Capacity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buja, Nigeria October 2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uine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ing Decentralized Management of the Environment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et 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 Coastal  Development to meet Rio Convention Obj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 and Decision-making Systems in Burkina Fa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nisterial Structures and Mechanis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ural resources in Bel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F375-B53A-4E8B-851A-55A4E65BCBFE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8-15T21:04:24Z</cp:lastPrinted>
  <dcterms:modified xsi:type="dcterms:W3CDTF">2013-09-25T19:11:44Z</dcterms:modified>
  <cp:revision>298</cp:revision>
  <dc:subject/>
  <dc:title>Slide 1</dc:title>
</cp:coreProperties>
</file>