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D1E6-BAA0-40C7-8A97-FC1F43D52E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DA66-57AB-46B8-BC34-D87B3DFEF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3B47-0FAA-4C68-B883-A297C998A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34D8-C8E5-4193-9D6D-2C3470684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5C66-288F-4B33-B457-34D6C006E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3D63-5E58-4478-8185-356F5EACF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00B2-3B64-4C96-BD08-8552F5F2F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5712-31B3-4D33-9FAB-ECE5139D1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now conduct a practical exerci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read the instructions from the word docu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6F78-C738-408B-9C61-D342C1867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A16A-92A6-4F21-A91F-79790FDF9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228C-A262-4D7C-92AA-A951E1F63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8FC5-9C35-4D75-8CA7-8D3BBBA10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tional Capacity Self-Assessments, a process which we will talk about in a few mo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development at the individual focal area pro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ss-Cutting Capacity Development, across focal areas (cross-cutting) as "a cost-effective means of addressing capacity building needs at a systemic or institutional level that are not unique to any one focal area, but will assist countries to manage global environmental issues in a more general way". Particularly by strengthening institutions and organizations and the enabling environ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critical capacity development programs targeted towards LDCs and SIDs, many of which have chronically-low capacities for the governance and management of environmental management progra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lso in response to guidance from the COPs of CBD and UNFCCC which have both requested the GEF to provide funding for country-driven capacity development activities, in particular LDCs and SIDSs.  It was part of the strategy for GEF3 and GEF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12DB-95E9-44CD-83F0-A518D70C6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30D7-86D6-4599-B95D-2A57DC245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6CA3-84CD-4797-84BD-499D10002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7D4B-6BE8-42B5-A57A-66FA5DD2F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8365-1915-48F3-93C8-3CEC91DCC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5F50-F073-4773-A295-0C418A4DD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A3FC-885A-4C56-B3D1-42775CE0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AA0B-9BA6-4B23-B721-F6E59C74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048E-1F2F-49B8-BB99-8336A22D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5DC6-0818-467E-9B1A-66F1E71D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4905-49F7-40A5-8C45-2B79ABFE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D91B-F63D-426A-9E5B-D882AAA9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9F3F-6AD3-4398-BD4D-2240B0DC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CB51-9781-40AF-8E78-CCC212F7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75EE-0CA4-49CD-960B-7AD379AE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31BA-9407-488A-B034-52B9CCD5C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2163-E4AD-49CB-8B6D-A34C4A42A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6"/>
          <p:cNvGrpSpPr/>
          <p:nvPr/>
        </p:nvGrpSpPr>
        <p:grpSpPr>
          <a:xfrm>
            <a:off x="0" y="0"/>
            <a:ext cx="9144000" cy="1247760"/>
            <a:chOff x="0" y="0"/>
            <a:chExt cx="9144000" cy="1247760"/>
          </a:xfrm>
        </p:grpSpPr>
        <p:pic>
          <p:nvPicPr>
            <p:cNvPr id="40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1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7C76-1263-4134-BA83-E27A958A3DEE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3EAE-A6DA-4526-BD1E-20BD1274BC27}" type="slidenum"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hegef.org/gef/GEF5_Capacity_Development_Strategy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16-17 December, 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Marrakech, Moroc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Cross-Cutting Capacity Development Strategy – GEF 5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3"/>
          <p:cNvSpPr/>
          <p:nvPr/>
        </p:nvSpPr>
        <p:spPr>
          <a:xfrm>
            <a:off x="914400" y="1447920"/>
            <a:ext cx="7467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e creation of synergies to meet the priorities of the Rio Convention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and replicate innovative tools and “best practices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 the global environmental dimension into national policies and legislative and regulatory framework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CSA results – The basis for GEF 5 Strategy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3"/>
          <p:cNvSpPr/>
          <p:nvPr/>
        </p:nvSpPr>
        <p:spPr>
          <a:xfrm>
            <a:off x="914400" y="1447920"/>
            <a:ext cx="746748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opt an adaptive and collaborative management approach in the design and execution of projec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capacity development in the light of limitations of absorption capaci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 environmental sustainability through monitoring guidelines and strong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CSA results – The basis for GEF 5 Strategy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trategic objectives of capacity development - GE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Content Placeholder 2"/>
          <p:cNvSpPr/>
          <p:nvPr/>
        </p:nvSpPr>
        <p:spPr>
          <a:xfrm>
            <a:off x="304920" y="914400"/>
            <a:ext cx="822960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enhance the capacities of stakeholders to engage throughout the consultative process </a:t>
            </a:r>
            <a:r>
              <a:rPr b="0" lang="en-US" sz="2400" spc="-1" strike="noStrike">
                <a:solidFill>
                  <a:srgbClr val="595959"/>
                </a:solidFill>
                <a:latin typeface="Times New Roman"/>
                <a:ea typeface="ＭＳ Ｐゴシック"/>
              </a:rPr>
              <a:t>(National Dialogue Initiative, Program Coordination Agency, Small Grants Program and focal area proj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generate, access and use information and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3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strengthen capacities to develop policy and legislative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To strengthen capacities to implement and manage global convention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5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enhance capacities to monitor and evaluate environmental impacts and tre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Consistency with GEF strategic objectives of cross-cutting capacity development </a:t>
            </a:r>
            <a:r>
              <a:rPr b="0" i="1" lang="en-US" sz="2000" spc="-1" strike="noStrike" u="sng">
                <a:solidFill>
                  <a:srgbClr val="595959"/>
                </a:solidFill>
                <a:uFillTx/>
                <a:latin typeface="Calibri"/>
              </a:rPr>
              <a:t>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hegef.org/gef/GEF5_Capacity_Development_Strategy</a:t>
            </a:r>
            <a:r>
              <a:rPr b="0" i="1" lang="en-US" sz="2000" spc="-1" strike="noStrike" u="sng">
                <a:solidFill>
                  <a:srgbClr val="595959"/>
                </a:solidFill>
                <a:uFillTx/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ulti-focal (benefit at least three focal area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Priorities were identified in NCSA exerci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Indicators are included for measuring progress and attainment of objectives agreed in beneficiary countr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easures are specified to ensure sustaina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Co-financing (at least 1:1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edium-Sized or Full-Sized proj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General requirements for CCCD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Ukraine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ntegrating Rio Convention Provisions into Ukraine's National Environmental Policy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amewor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Kazakhstan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Improvement of the Decision-Making process in Kazakhstan through introduction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f Mechanisms of Economic Assessment of fulfilling National Obligations under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lobal Environmental Agreements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sta Rica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apacity Building for Mainstreaming MEA Objectives into Inter-ministeria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ructures and Mechanis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lize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apacity building for the strategic planning and management of natural resources in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liz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. Lucia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ncrease St. Lucia's capacity to monitor MEA implementation and sustainable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ment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ôte d’Ivoire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rengthened Environmental Management Information System for Coasta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ment to meet Rio Convention Objectiv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urkina Faso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enerating Global Environmental Benefits from Improved Local Planning and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cision-making Systems in Burkina Fas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Examples of GEF 5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266400" y="4876920"/>
            <a:ext cx="8877240" cy="15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strengthening key capacities to implement the MEAs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stream the global commons into decision ma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3"/>
          <p:cNvSpPr/>
          <p:nvPr/>
        </p:nvSpPr>
        <p:spPr>
          <a:xfrm>
            <a:off x="0" y="76320"/>
            <a:ext cx="9144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oss-Cutting Capacity Develop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countries meet and sustain global environmental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-152280" y="441972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1"/>
          <a:stretch/>
        </p:blipFill>
        <p:spPr>
          <a:xfrm>
            <a:off x="2895480" y="1042920"/>
            <a:ext cx="321624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Draft Strategy– GEF6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tegrate global environmental needs into management information system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strengthen consultative and management structures and mechanisms. Th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tegrate Multilateral Environmental Agreements’ provisions within national policy, legislative, and regulatory framework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pilot innovative economic and financial tools for Convention implement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dating of NCS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tle 3"/>
          <p:cNvSpPr/>
          <p:nvPr/>
        </p:nvSpPr>
        <p:spPr>
          <a:xfrm>
            <a:off x="0" y="1295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42d"/>
                </a:solidFill>
                <a:latin typeface="Calibri"/>
              </a:rPr>
              <a:t>Thank you for your atten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itle 3"/>
          <p:cNvSpPr/>
          <p:nvPr/>
        </p:nvSpPr>
        <p:spPr>
          <a:xfrm>
            <a:off x="0" y="22860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4d4d4d"/>
                </a:solidFill>
                <a:latin typeface="Calibri"/>
              </a:rPr>
              <a:t>Any question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tle 3"/>
          <p:cNvSpPr/>
          <p:nvPr/>
        </p:nvSpPr>
        <p:spPr>
          <a:xfrm>
            <a:off x="1447920" y="4572000"/>
            <a:ext cx="6629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42d"/>
                </a:solidFill>
                <a:latin typeface="Calibri"/>
              </a:rPr>
              <a:t>The Global Environment Fac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d4d4d"/>
                </a:solidFill>
                <a:latin typeface="Calibri"/>
              </a:rPr>
              <a:t>1818 H Street, NW, Mail Stop P4-400 - Washington, DC 20433 USA</a:t>
            </a:r>
            <a:br>
              <a:rPr sz="1400"/>
            </a:br>
            <a:r>
              <a:rPr b="0" lang="pt-BR" sz="1400" spc="-1" strike="noStrike">
                <a:solidFill>
                  <a:srgbClr val="4d4d4d"/>
                </a:solidFill>
                <a:latin typeface="Calibri"/>
              </a:rPr>
              <a:t>Tel: (202) 473-0508  Fax: (202) 522-3240/32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642d"/>
                </a:solidFill>
                <a:latin typeface="Calibri"/>
              </a:rPr>
              <a:t>www.thegef.org  / secretariat@thegef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alibri"/>
              </a:rPr>
              <a:t>Ques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What are the country’s priority capacity needs as identified in the Needs Self-Assessment exercise? Are those capacity needs still vali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Choose two or three priorities to be addressed in a Hypothetical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To what objectives of the Cross-Cutting Capacity Development Strategy would the project rela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What are the components of the project?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ractical exercise – Capacity development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cess by which individuals, organizations and societies strengthen their ability to address environmental issues, manage natural resource issues, and mainstream environmental sustainability into development policies, plans and decisions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What is meant by capacity development (CD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individual level: the process by which a change in attitudes and behaviors occu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organizational level: the focus is on functional capacities allowing for organizational chan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system level: the focus is on the enabling environment (i.e. policy, regulation, etc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Dimensions of CCC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5"/>
          <p:cNvSpPr/>
          <p:nvPr/>
        </p:nvSpPr>
        <p:spPr>
          <a:xfrm>
            <a:off x="420840" y="1371600"/>
            <a:ext cx="830088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Capac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evelopment Initiative (GEF/UNDP, 19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ational Capacity Self-Assessments – NCSA (2002-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rategic Approach for Capacity Development (GEF,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upport from the corporate program for NCSAs (GEF/UNDP/UNEP, 2005-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ime line of CD in the G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65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GEF STRATEGIC APPROACH TO CAPACITY BUILDING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Four pathways to develop countries’ capacity to implement the Rio Conventions (Council Decision C/22.8)</a:t>
            </a:r>
            <a:endParaRPr b="1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177" name="Group 13"/>
          <p:cNvGrpSpPr/>
          <p:nvPr/>
        </p:nvGrpSpPr>
        <p:grpSpPr>
          <a:xfrm>
            <a:off x="609480" y="1676520"/>
            <a:ext cx="8001000" cy="3272760"/>
            <a:chOff x="609480" y="1676520"/>
            <a:chExt cx="8001000" cy="3272760"/>
          </a:xfrm>
        </p:grpSpPr>
        <p:sp>
          <p:nvSpPr>
            <p:cNvPr id="178" name="Text Box 3"/>
            <p:cNvSpPr/>
            <p:nvPr/>
          </p:nvSpPr>
          <p:spPr>
            <a:xfrm>
              <a:off x="993960" y="1676520"/>
              <a:ext cx="7385760" cy="3682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542"/>
                  </a:solidFill>
                  <a:latin typeface="Calibri"/>
                </a:rPr>
                <a:t>Capacity Development (CD) through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4"/>
            <p:cNvSpPr/>
            <p:nvPr/>
          </p:nvSpPr>
          <p:spPr>
            <a:xfrm>
              <a:off x="609480" y="2722680"/>
              <a:ext cx="1785960" cy="1769760"/>
            </a:xfrm>
            <a:prstGeom prst="rect">
              <a:avLst/>
            </a:prstGeom>
            <a:solidFill>
              <a:srgbClr val="007542">
                <a:alpha val="22000"/>
              </a:srgbClr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  <a:ea typeface="Arial"/>
                </a:rPr>
                <a:t>1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  <a:ea typeface="Arial"/>
                </a:rPr>
                <a:t>National Capacity Self-Assessments (NCSA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"/>
            <p:cNvSpPr/>
            <p:nvPr/>
          </p:nvSpPr>
          <p:spPr>
            <a:xfrm>
              <a:off x="2808000" y="2722680"/>
              <a:ext cx="1673280" cy="210492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2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Greater attention to CD in individual proje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4917960" y="2722680"/>
              <a:ext cx="1711080" cy="176976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3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Cross-cutting CD proje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7"/>
            <p:cNvSpPr/>
            <p:nvPr/>
          </p:nvSpPr>
          <p:spPr>
            <a:xfrm>
              <a:off x="6977160" y="2690640"/>
              <a:ext cx="1633320" cy="225864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4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95959"/>
                  </a:solidFill>
                  <a:latin typeface="Calibri"/>
                </a:rPr>
                <a:t>Critical Programs for CD in LDCs &amp; SI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8"/>
            <p:cNvSpPr/>
            <p:nvPr/>
          </p:nvSpPr>
          <p:spPr>
            <a:xfrm>
              <a:off x="112860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9"/>
            <p:cNvSpPr/>
            <p:nvPr/>
          </p:nvSpPr>
          <p:spPr>
            <a:xfrm>
              <a:off x="32011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0"/>
            <p:cNvSpPr/>
            <p:nvPr/>
          </p:nvSpPr>
          <p:spPr>
            <a:xfrm>
              <a:off x="52783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1"/>
            <p:cNvSpPr/>
            <p:nvPr/>
          </p:nvSpPr>
          <p:spPr>
            <a:xfrm>
              <a:off x="73555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trategic focus for CD (GEF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57600" y="2971800"/>
            <a:ext cx="5486400" cy="31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ional Capacity Self-Assessments: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s, Lessons Learned, Opportunities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F032-7A82-41AC-B986-5B28B1F83F91}" type="slidenum">
              <a:rPr b="0" lang="fr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NCSA SR cover.jpg"/>
          <p:cNvPicPr/>
          <p:nvPr/>
        </p:nvPicPr>
        <p:blipFill>
          <a:blip r:embed="rId1"/>
          <a:stretch/>
        </p:blipFill>
        <p:spPr>
          <a:xfrm>
            <a:off x="4648320" y="1108080"/>
            <a:ext cx="3357360" cy="43434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609480" y="2722680"/>
            <a:ext cx="1785960" cy="2104920"/>
          </a:xfrm>
          <a:prstGeom prst="rect">
            <a:avLst/>
          </a:prstGeom>
          <a:solidFill>
            <a:srgbClr val="007542">
              <a:alpha val="22000"/>
            </a:srgbClr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National Capa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Self-Assess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(NCS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1128600" y="2187720"/>
            <a:ext cx="720720" cy="476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75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3"/>
          <p:cNvSpPr/>
          <p:nvPr/>
        </p:nvSpPr>
        <p:spPr>
          <a:xfrm>
            <a:off x="304920" y="914400"/>
            <a:ext cx="784836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evant to the decisions in the Rio Conven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ing into the country’s development prior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arheaded by the country, with a high-level political commit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extensive consultation of the various players for decision-ma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perational guidelines for NCSAs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3"/>
          <p:cNvSpPr/>
          <p:nvPr/>
        </p:nvSpPr>
        <p:spPr>
          <a:xfrm>
            <a:off x="304920" y="914400"/>
            <a:ext cx="784836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xisting structures and mechanisms in count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development of existing capac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ed to strengthen system, organization and individual capac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lecting synergies between the Rio Conven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perational guidelines for NCSA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4"/>
          <p:cNvSpPr/>
          <p:nvPr/>
        </p:nvSpPr>
        <p:spPr>
          <a:xfrm>
            <a:off x="990720" y="1676520"/>
            <a:ext cx="739116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and international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governance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ing of the environmental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 creation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awareness and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ic and financial 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9 countries out of a total of 1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apacity development needs identified in the NC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22:28:47Z</dcterms:created>
  <dc:creator>wb350798</dc:creator>
  <dc:description/>
  <dc:language>en-US</dc:language>
  <cp:lastModifiedBy>Maria Camila Perez Gabilondo</cp:lastModifiedBy>
  <cp:lastPrinted>2013-01-30T21:17:22Z</cp:lastPrinted>
  <dcterms:modified xsi:type="dcterms:W3CDTF">2013-11-11T19:43:04Z</dcterms:modified>
  <cp:revision>294</cp:revision>
  <dc:subject/>
  <dc:title>Slide 1</dc:title>
</cp:coreProperties>
</file>