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7B2DB-B6C8-41E5-8884-79C331A719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A0A82-DA7E-46FD-B22F-67C9C7DC06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51482-93E3-4EDF-BFC1-B594622B3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CBD7E-870F-45C8-AF57-6A0122707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EC1B6-5C6D-4A67-B061-68E80BFF9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7FB2A-4521-415D-AFD2-B02194510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3FE74-B6EC-49E7-AD17-38BBDA791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93B38-B300-4D99-AA3B-8DDEE67E5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ill now conduct a practical exerci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 read the instructions from the word docu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61974-B7EA-4A77-803D-F8D45BBCD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7858F-5306-47B3-8E62-C7D0996FC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F9F88-91EB-4F10-B371-391774A08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50805-F8ED-4A42-AA78-12A6571EF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ational Capacity Self-Assessments, a process which we will talk about in a few mo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acity development at the individual focal area proj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oss-Cutting Capacity Development, across focal areas (cross-cutting) as "a cost-effective means of addressing capacity building needs at a systemic or institutional level that are not unique to any one focal area, but will assist countries to manage global environmental issues in a more general way". Particularly by strengthening institutions and organizations and the enabling environ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critical capacity development programs targeted towards LDCs and SIDs, many of which have chronically-low capacities for the governance and management of environmental management program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lso in response to guidance from the COPs of CBD and UNFCCC which have both requested the GEF to provide funding for country-driven capacity development activities, in particular LDCs and SIDSs.  It was part of the strategy for GEF3 and GEF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5EEDA-F41B-48AB-A4CB-D5DD2DDB0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39E3A-E1BF-4DB0-BAE8-C05707A78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C78A2-F431-4E25-87A1-4687EC95D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EF720-A510-480E-88BA-71307BD5C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FC4FF-A97A-4E37-B755-C93BD94C3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720F-9442-4A19-8ACD-7F2C7D1D9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8AE0-2BCB-4618-8645-60B66ABB0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EA3F-E1F0-4074-9A08-E324EDF8B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DCEC-86D5-4E0F-A2F6-42729BCAB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B708-25FA-4C87-A4AE-540839D1A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D097-E825-4A39-AB81-3F7940F3A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79A7-95C7-4A00-B9D5-11C284C9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66E3-3B03-49A3-AFC5-FEBEBC118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21D3-2312-409A-9144-1C3C8EB2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E0B7-CE48-440D-A754-BD60D351A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948E-6948-4474-AB53-194518727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BFE0-E38E-4A34-899D-34186D57B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4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6"/>
          <p:cNvGrpSpPr/>
          <p:nvPr/>
        </p:nvGrpSpPr>
        <p:grpSpPr>
          <a:xfrm>
            <a:off x="0" y="0"/>
            <a:ext cx="9144000" cy="1247760"/>
            <a:chOff x="0" y="0"/>
            <a:chExt cx="9144000" cy="1247760"/>
          </a:xfrm>
        </p:grpSpPr>
        <p:pic>
          <p:nvPicPr>
            <p:cNvPr id="40" name="Picture 5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7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0"/>
              <a:ext cx="9119880" cy="61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7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AC135-9536-469B-97A2-16145A88AD1F}" type="datetime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CCF71-8210-493B-B0AA-B0EB5A9FD41A}" type="slidenum"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thegef.org/gef/GEF5_Capacity_Development_Strategy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91440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GEF Expanded Constituency Worksh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16-17 December, 20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Marrakech, Moroc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251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Cross-Cutting Capacity Development Strategy – GEF 5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3"/>
          <p:cNvSpPr/>
          <p:nvPr/>
        </p:nvSpPr>
        <p:spPr>
          <a:xfrm>
            <a:off x="914400" y="1447920"/>
            <a:ext cx="7467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e creation of synergies to meet the priorities of the Rio Convention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and replicate innovative tools and “best practices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stream the global environmental dimension into national policies and legislative and regulatory framework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NCSA results – The basis for GEF 5 Strategy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Box 3"/>
          <p:cNvSpPr/>
          <p:nvPr/>
        </p:nvSpPr>
        <p:spPr>
          <a:xfrm>
            <a:off x="914400" y="1447920"/>
            <a:ext cx="7467480" cy="32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opt an adaptive and collaborative management approach in the design and execution of project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capacity development in the light of limitations of absorption capacit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hance environmental sustainability through monitoring guidelines and strong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NCSA results – The basis for GEF 5 Strategy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Strategic objectives of capacity development - GE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Content Placeholder 2"/>
          <p:cNvSpPr/>
          <p:nvPr/>
        </p:nvSpPr>
        <p:spPr>
          <a:xfrm>
            <a:off x="304920" y="914400"/>
            <a:ext cx="822960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42"/>
                </a:solidFill>
                <a:latin typeface="Times New Roman"/>
                <a:ea typeface="ＭＳ Ｐゴシック"/>
              </a:rPr>
              <a:t>CD 1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To enhance the capacities of stakeholders to engage throughout the consultative process </a:t>
            </a:r>
            <a:r>
              <a:rPr b="0" lang="en-US" sz="2400" spc="-1" strike="noStrike">
                <a:solidFill>
                  <a:srgbClr val="595959"/>
                </a:solidFill>
                <a:latin typeface="Times New Roman"/>
                <a:ea typeface="ＭＳ Ｐゴシック"/>
              </a:rPr>
              <a:t>(National Dialogue Initiative, Program Coordination Agency, Small Grants Program and focal area projec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42"/>
                </a:solidFill>
                <a:latin typeface="Times New Roman"/>
                <a:ea typeface="ＭＳ Ｐゴシック"/>
              </a:rPr>
              <a:t>CD 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To generate, access and use information and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42"/>
                </a:solidFill>
                <a:latin typeface="Times New Roman"/>
                <a:ea typeface="ＭＳ Ｐゴシック"/>
              </a:rPr>
              <a:t>CD 3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 strengthen capacities to develop policy and legislative frame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42"/>
                </a:solidFill>
                <a:latin typeface="Times New Roman"/>
                <a:ea typeface="ＭＳ Ｐゴシック"/>
              </a:rPr>
              <a:t>CD 4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To strengthen capacities to implement and manage global convention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42"/>
                </a:solidFill>
                <a:latin typeface="Times New Roman"/>
                <a:ea typeface="ＭＳ Ｐゴシック"/>
              </a:rPr>
              <a:t>CD 5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To enhance capacities to monitor and evaluate environmental impacts and tre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Consistency with GEF strategic objectives of cross-cutting capacity development </a:t>
            </a:r>
            <a:r>
              <a:rPr b="0" i="1" lang="en-US" sz="2000" spc="-1" strike="noStrike" u="sng">
                <a:solidFill>
                  <a:srgbClr val="595959"/>
                </a:solidFill>
                <a:uFillTx/>
                <a:latin typeface="Calibri"/>
              </a:rPr>
              <a:t>(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thegef.org/gef/GEF5_Capacity_Development_Strategy</a:t>
            </a:r>
            <a:r>
              <a:rPr b="0" i="1" lang="en-US" sz="2000" spc="-1" strike="noStrike" u="sng">
                <a:solidFill>
                  <a:srgbClr val="595959"/>
                </a:solidFill>
                <a:uFillTx/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Multi-focal (benefit at least three focal area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Priorities were identified in NCSA exercis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Indicators are included for measuring progress and attainment of objectives agreed in beneficiary countr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Measures are specified to ensure sustainabi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Co-financing (at least 1:1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Medium-Sized or Full-Sized projec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General requirements for CCCD pro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6854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Ukraine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ntegrating Rio Convention Provisions into Ukraine's National Environmental Policy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Framewor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Kazakhstan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Improvement of the Decision-Making process in Kazakhstan through introduction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f Mechanisms of Economic Assessment of fulfilling National Obligations under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Global Environmental Agreements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sta Rica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apacity Building for Mainstreaming MEA Objectives into Inter-ministerial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tructures and Mechanism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elize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apacity building for the strategic planning and management of natural resources in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eliz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t. Lucia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ncrease St. Lucia's capacity to monitor MEA implementation and sustainable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velopment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ôte d’Ivoire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trengthened Environmental Management Information System for Coastal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velopment to meet Rio Convention Objectiv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urkina Faso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Generating Global Environmental Benefits from Improved Local Planning and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cision-making Systems in Burkina Fas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Examples of GEF 5 pro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266400" y="4876920"/>
            <a:ext cx="8877240" cy="150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strengthening key capacities to implement the MEAs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stream the global commons into decision ma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3"/>
          <p:cNvSpPr/>
          <p:nvPr/>
        </p:nvSpPr>
        <p:spPr>
          <a:xfrm>
            <a:off x="0" y="76320"/>
            <a:ext cx="91440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oss-Cutting Capacity Develop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countries meet and sustain global environmental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-152280" y="4419720"/>
            <a:ext cx="899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6" descr=""/>
          <p:cNvPicPr/>
          <p:nvPr/>
        </p:nvPicPr>
        <p:blipFill>
          <a:blip r:embed="rId1"/>
          <a:stretch/>
        </p:blipFill>
        <p:spPr>
          <a:xfrm>
            <a:off x="2895480" y="1042920"/>
            <a:ext cx="3216240" cy="33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Draft Strategy– GEF6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integrate global environmental needs into management information system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strengthen consultative and management structures and mechanisms. Thi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integrate Multilateral Environmental Agreements’ provisions within national policy, legislative, and regulatory frameworks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pilot innovative economic and financial tools for Convention implementa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pdating of NCSA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itle 3"/>
          <p:cNvSpPr/>
          <p:nvPr/>
        </p:nvSpPr>
        <p:spPr>
          <a:xfrm>
            <a:off x="0" y="1295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42d"/>
                </a:solidFill>
                <a:latin typeface="Calibri"/>
              </a:rPr>
              <a:t>Thank you for your atten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itle 3"/>
          <p:cNvSpPr/>
          <p:nvPr/>
        </p:nvSpPr>
        <p:spPr>
          <a:xfrm>
            <a:off x="0" y="22860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4d4d4d"/>
                </a:solidFill>
                <a:latin typeface="Calibri"/>
              </a:rPr>
              <a:t>Any questions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itle 3"/>
          <p:cNvSpPr/>
          <p:nvPr/>
        </p:nvSpPr>
        <p:spPr>
          <a:xfrm>
            <a:off x="1447920" y="4572000"/>
            <a:ext cx="6629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42d"/>
                </a:solidFill>
                <a:latin typeface="Calibri"/>
              </a:rPr>
              <a:t>The Global Environment Fac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d4d4d"/>
                </a:solidFill>
                <a:latin typeface="Calibri"/>
              </a:rPr>
              <a:t>1818 H Street, NW, Mail Stop P4-400 - Washington, DC 20433 USA</a:t>
            </a:r>
            <a:br>
              <a:rPr sz="1400"/>
            </a:br>
            <a:r>
              <a:rPr b="0" lang="pt-BR" sz="1400" spc="-1" strike="noStrike">
                <a:solidFill>
                  <a:srgbClr val="4d4d4d"/>
                </a:solidFill>
                <a:latin typeface="Calibri"/>
              </a:rPr>
              <a:t>Tel: (202) 473-0508  Fax: (202) 522-3240/32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642d"/>
                </a:solidFill>
                <a:latin typeface="Calibri"/>
              </a:rPr>
              <a:t>www.thegef.org  / secretariat@thegef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57200" y="6854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alibri"/>
              </a:rPr>
              <a:t>Ques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What are the country’s priority capacity needs as identified in the Needs Self-Assessment exercise? Are those capacity needs still vali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Choose two or three priorities to be addressed in a Hypothetical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To what objectives of the Cross-Cutting Capacity Development Strategy would the project relat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What are the components of the project?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Practical exercise – Capacity development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rocess by which individuals, organizations and societies strengthen their ability to address environmental issues, manage natural resource issues, and mainstream environmental sustainability into development policies, plans and decisions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What is meant by capacity development (CD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the individual level: the process by which a change in attitudes and behaviors occu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the organizational level: the focus is on functional capacities allowing for organizational chan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the system level: the focus is on the enabling environment (i.e. policy, regulation, etc.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Dimensions of CCC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5"/>
          <p:cNvSpPr/>
          <p:nvPr/>
        </p:nvSpPr>
        <p:spPr>
          <a:xfrm>
            <a:off x="420840" y="1371600"/>
            <a:ext cx="8300880" cy="43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Capacit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Development Initiative (GEF/UNDP, 199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National Capacity Self-Assessments – NCSA (2002-20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trategic Approach for Capacity Development (GEF, 200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upport from the corporate program for NCSAs (GEF/UNDP/UNEP, 2005-20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Time line of CD in the GE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65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GEF STRATEGIC APPROACH TO CAPACITY BUILDING</a:t>
            </a:r>
            <a:br>
              <a:rPr sz="2400"/>
            </a:b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Four pathways to develop countries’ capacity to implement the Rio Conventions (Council Decision C/22.8)</a:t>
            </a:r>
            <a:endParaRPr b="1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grpSp>
        <p:nvGrpSpPr>
          <p:cNvPr id="177" name="Group 13"/>
          <p:cNvGrpSpPr/>
          <p:nvPr/>
        </p:nvGrpSpPr>
        <p:grpSpPr>
          <a:xfrm>
            <a:off x="609480" y="1676520"/>
            <a:ext cx="8001000" cy="3272760"/>
            <a:chOff x="609480" y="1676520"/>
            <a:chExt cx="8001000" cy="3272760"/>
          </a:xfrm>
        </p:grpSpPr>
        <p:sp>
          <p:nvSpPr>
            <p:cNvPr id="178" name="Text Box 3"/>
            <p:cNvSpPr/>
            <p:nvPr/>
          </p:nvSpPr>
          <p:spPr>
            <a:xfrm>
              <a:off x="993960" y="1676520"/>
              <a:ext cx="7385760" cy="3682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542"/>
                  </a:solidFill>
                  <a:latin typeface="Calibri"/>
                </a:rPr>
                <a:t>Capacity Development (CD) through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4"/>
            <p:cNvSpPr/>
            <p:nvPr/>
          </p:nvSpPr>
          <p:spPr>
            <a:xfrm>
              <a:off x="609480" y="2722680"/>
              <a:ext cx="1785960" cy="1769760"/>
            </a:xfrm>
            <a:prstGeom prst="rect">
              <a:avLst/>
            </a:prstGeom>
            <a:solidFill>
              <a:srgbClr val="007542">
                <a:alpha val="22000"/>
              </a:srgbClr>
            </a:solidFill>
            <a:ln w="1908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  <a:ea typeface="Arial"/>
                </a:rPr>
                <a:t>1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  <a:ea typeface="Arial"/>
                </a:rPr>
                <a:t>National Capacity Self-Assessments (NCSAs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"/>
            <p:cNvSpPr/>
            <p:nvPr/>
          </p:nvSpPr>
          <p:spPr>
            <a:xfrm>
              <a:off x="2808000" y="2722680"/>
              <a:ext cx="1673280" cy="2104920"/>
            </a:xfrm>
            <a:prstGeom prst="rect">
              <a:avLst/>
            </a:prstGeom>
            <a:solidFill>
              <a:srgbClr val="f2f2f2"/>
            </a:solidFill>
            <a:ln w="1908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</a:rPr>
                <a:t>2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</a:rPr>
                <a:t>Greater attention to CD in individual project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6"/>
            <p:cNvSpPr/>
            <p:nvPr/>
          </p:nvSpPr>
          <p:spPr>
            <a:xfrm>
              <a:off x="4917960" y="2722680"/>
              <a:ext cx="1711080" cy="1769760"/>
            </a:xfrm>
            <a:prstGeom prst="rect">
              <a:avLst/>
            </a:prstGeom>
            <a:solidFill>
              <a:srgbClr val="f2f2f2"/>
            </a:solidFill>
            <a:ln w="1908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</a:rPr>
                <a:t>3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</a:rPr>
                <a:t>Cross-cutting CD project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7"/>
            <p:cNvSpPr/>
            <p:nvPr/>
          </p:nvSpPr>
          <p:spPr>
            <a:xfrm>
              <a:off x="6977160" y="2690640"/>
              <a:ext cx="1633320" cy="2258640"/>
            </a:xfrm>
            <a:prstGeom prst="rect">
              <a:avLst/>
            </a:prstGeom>
            <a:solidFill>
              <a:srgbClr val="f2f2f2"/>
            </a:solidFill>
            <a:ln w="1908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</a:rPr>
                <a:t>4.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95959"/>
                  </a:solidFill>
                  <a:latin typeface="Calibri"/>
                </a:rPr>
                <a:t>Critical Programs for CD in LDCs &amp; SI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8"/>
            <p:cNvSpPr/>
            <p:nvPr/>
          </p:nvSpPr>
          <p:spPr>
            <a:xfrm>
              <a:off x="1128600" y="2187360"/>
              <a:ext cx="721080" cy="475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7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9"/>
            <p:cNvSpPr/>
            <p:nvPr/>
          </p:nvSpPr>
          <p:spPr>
            <a:xfrm>
              <a:off x="3201120" y="2187360"/>
              <a:ext cx="721080" cy="475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7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0"/>
            <p:cNvSpPr/>
            <p:nvPr/>
          </p:nvSpPr>
          <p:spPr>
            <a:xfrm>
              <a:off x="5278320" y="2187360"/>
              <a:ext cx="721080" cy="475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7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11"/>
            <p:cNvSpPr/>
            <p:nvPr/>
          </p:nvSpPr>
          <p:spPr>
            <a:xfrm>
              <a:off x="7355520" y="2187360"/>
              <a:ext cx="721080" cy="475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7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Strategic focus for CD (GEF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657600" y="2971800"/>
            <a:ext cx="5486400" cy="317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ional Capacity Self-Assessments: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lts, Lessons Learned, Opportunities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9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BAEFD-3C91-4CFD-9FC7-2B48D1244E6C}" type="slidenum">
              <a:rPr b="0" lang="fr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NCSA SR cover.jpg"/>
          <p:cNvPicPr/>
          <p:nvPr/>
        </p:nvPicPr>
        <p:blipFill>
          <a:blip r:embed="rId1"/>
          <a:stretch/>
        </p:blipFill>
        <p:spPr>
          <a:xfrm>
            <a:off x="4648320" y="1108080"/>
            <a:ext cx="3357360" cy="43434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4"/>
          <p:cNvSpPr/>
          <p:nvPr/>
        </p:nvSpPr>
        <p:spPr>
          <a:xfrm>
            <a:off x="609480" y="2722680"/>
            <a:ext cx="1785960" cy="2104920"/>
          </a:xfrm>
          <a:prstGeom prst="rect">
            <a:avLst/>
          </a:prstGeom>
          <a:solidFill>
            <a:srgbClr val="007542">
              <a:alpha val="22000"/>
            </a:srgbClr>
          </a:solidFill>
          <a:ln w="19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bri"/>
                <a:ea typeface="Arial"/>
              </a:rPr>
              <a:t>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bri"/>
                <a:ea typeface="Arial"/>
              </a:rPr>
              <a:t>National Capac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bri"/>
                <a:ea typeface="Arial"/>
              </a:rPr>
              <a:t>Self-Assess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bri"/>
                <a:ea typeface="Arial"/>
              </a:rPr>
              <a:t>(NCS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1128600" y="2187720"/>
            <a:ext cx="720720" cy="476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75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Box 3"/>
          <p:cNvSpPr/>
          <p:nvPr/>
        </p:nvSpPr>
        <p:spPr>
          <a:xfrm>
            <a:off x="304920" y="914400"/>
            <a:ext cx="7848360" cy="44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evant to the decisions in the Rio Conven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streaming into the country’s development prior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arheaded by the country, with a high-level political commit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on extensive consultation of the various players for decision-ma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Operational guidelines for NCSAs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Box 3"/>
          <p:cNvSpPr/>
          <p:nvPr/>
        </p:nvSpPr>
        <p:spPr>
          <a:xfrm>
            <a:off x="304920" y="914400"/>
            <a:ext cx="7848360" cy="39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xisting structures and mechanisms in count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on development of existing capac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ed to strengthen system, organization and individual capac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lecting synergies between the Rio Conven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Operational guidelines for NCSAs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4"/>
          <p:cNvSpPr/>
          <p:nvPr/>
        </p:nvSpPr>
        <p:spPr>
          <a:xfrm>
            <a:off x="990720" y="1676520"/>
            <a:ext cx="739116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ing and international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 governance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streaming of the environmental persp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ledge creation and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awareness and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onomic and financial sustain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9 countries out of a total of 1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apacity development needs identified in the NC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0T22:28:47Z</dcterms:created>
  <dc:creator>wb350798</dc:creator>
  <dc:description/>
  <dc:language>en-US</dc:language>
  <cp:lastModifiedBy>Maria Camila Perez Gabilondo</cp:lastModifiedBy>
  <cp:lastPrinted>2013-01-30T21:17:22Z</cp:lastPrinted>
  <dcterms:modified xsi:type="dcterms:W3CDTF">2013-11-11T19:43:04Z</dcterms:modified>
  <cp:revision>294</cp:revision>
  <dc:subject/>
  <dc:title>Slide 1</dc:title>
</cp:coreProperties>
</file>