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7D2B4-1A76-48B6-B131-B19CEF15937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438E-C430-48F5-9806-842808097BC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0DB37-4333-4C96-828F-B38F78469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75A02-1F36-4220-A42A-16501528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02AA8-487D-47C7-87F0-3EB1BBF37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9ABA-A2B9-4A99-B737-78382B496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67E14-ADFE-4368-8F43-97F6201BF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73E22-F8A7-49AF-A038-49316CAD4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5B074-2CB6-47B4-8ADB-0BE17DC5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18509-D0F6-4E1A-BB2A-924342BA1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D8D3C-53B7-4F25-8861-C9B0BDC0E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1D842-B83E-4A80-BBEF-D05640B85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617B3-A459-4131-A8D2-CD2DA5835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553DE-DBB4-4702-9CCB-742F0A3EB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B8C8-EAC6-45A1-A396-ACB31BE8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F651-594B-4D99-A871-A61858F35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465D7-ADE2-4E2E-B766-2A6571DD1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2BA5A-EC13-40C9-9454-F9A5BE8DD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7CD89-25A8-4494-853F-B23739E3D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86F39-9378-4E3D-8107-4EBC1A8BD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B0063-A50B-44AA-B043-82541D98E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0608E-8CFD-4815-9225-F031CB7ED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77BFE-5518-4ECF-BA62-809FA7B82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3693-D4E5-4B18-BD8C-06EE7A7DC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0395-E283-47F8-9DBA-DD276DD94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A3B7-D32A-4574-9048-EF4936B46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4E50-58D9-4955-AA20-2E28273764FC}" type="datetime">
              <a:rPr b="0" lang="ru-RU"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2" name="PlaceHolder 2"/>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87A7-AA49-4F33-BF6C-03282E58E559}"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 name="Скругленный прямоугольник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5F1B-79ED-4951-B455-9A4B206D7FF2}" type="datetime">
              <a:rPr b="0" lang="ru-RU"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42" name="PlaceHolder 2"/>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A9DF-6EA5-4274-A6FD-8FD462705A68}" type="slidenum">
              <a:rPr b="0" lang="ru-RU" sz="1000" spc="-1" strike="noStrike">
                <a:solidFill>
                  <a:srgbClr val="afada5"/>
                </a:solidFill>
                <a:latin typeface="Verdana"/>
              </a:rPr>
              <a:t>&lt;number&gt;</a:t>
            </a:fld>
            <a:endParaRPr b="0" lang="en-US" sz="10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023840" indent="-182520">
              <a:spcBef>
                <a:spcPts val="224"/>
              </a:spcBef>
              <a:buClr>
                <a:srgbClr val="ff3d39"/>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279440" indent="-182520">
              <a:spcBef>
                <a:spcPts val="249"/>
              </a:spcBef>
              <a:buClr>
                <a:srgbClr val="beff4b"/>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279440" indent="-18252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179280" y="4005000"/>
            <a:ext cx="8640720" cy="16333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f7f7f"/>
                </a:solidFill>
                <a:latin typeface="Verdana"/>
              </a:rPr>
              <a:t>Comment les parties prenantes au niveau national peuvent-elles participer ?</a:t>
            </a:r>
            <a:endParaRPr b="0" lang="en-US" sz="2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7f7f7f"/>
                </a:solidFill>
                <a:latin typeface="Verdana"/>
              </a:rPr>
              <a:t>Exercice de groupe</a:t>
            </a:r>
            <a:endParaRPr b="0" lang="en-US" sz="2800" spc="-1" strike="noStrike">
              <a:solidFill>
                <a:srgbClr val="000000"/>
              </a:solidFill>
              <a:latin typeface="Verdana"/>
            </a:endParaRPr>
          </a:p>
        </p:txBody>
      </p:sp>
      <p:pic>
        <p:nvPicPr>
          <p:cNvPr id="90" name="Picture 2" descr="D:\KsenSite\0001\GEF_EO_logo.jpg"/>
          <p:cNvPicPr/>
          <p:nvPr/>
        </p:nvPicPr>
        <p:blipFill>
          <a:blip r:embed="rId1"/>
          <a:stretch/>
        </p:blipFill>
        <p:spPr>
          <a:xfrm>
            <a:off x="611280" y="5245200"/>
            <a:ext cx="2952720" cy="909360"/>
          </a:xfrm>
          <a:prstGeom prst="rect">
            <a:avLst/>
          </a:prstGeom>
          <a:ln w="0">
            <a:noFill/>
          </a:ln>
          <a:effectLst>
            <a:outerShdw dist="153753" dir="2700000" blurRad="0" rotWithShape="0">
              <a:srgbClr val="000000"/>
            </a:outerShdw>
          </a:effectLst>
        </p:spPr>
      </p:pic>
      <p:sp>
        <p:nvSpPr>
          <p:cNvPr id="91" name="TextBox 4"/>
          <p:cNvSpPr/>
          <p:nvPr/>
        </p:nvSpPr>
        <p:spPr>
          <a:xfrm>
            <a:off x="5149800" y="5516640"/>
            <a:ext cx="3527640" cy="3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2"/>
          <p:cNvSpPr>
            <a:spLocks noGrp="1"/>
          </p:cNvSpPr>
          <p:nvPr>
            <p:ph type="title"/>
          </p:nvPr>
        </p:nvSpPr>
        <p:spPr>
          <a:xfrm>
            <a:off x="685800" y="2852280"/>
            <a:ext cx="7989840" cy="8636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SUIVI ET ÉVALUATION AU FEM</a:t>
            </a:r>
            <a:endParaRPr b="1" lang="en-US" sz="3600" spc="-1" strike="noStrike">
              <a:solidFill>
                <a:srgbClr val="6594da"/>
              </a:solidFill>
              <a:latin typeface="Verdana"/>
            </a:endParaRPr>
          </a:p>
        </p:txBody>
      </p:sp>
      <p:pic>
        <p:nvPicPr>
          <p:cNvPr id="93" name="Рисунок 7" descr=""/>
          <p:cNvPicPr/>
          <p:nvPr/>
        </p:nvPicPr>
        <p:blipFill>
          <a:blip r:embed="rId2"/>
          <a:stretch/>
        </p:blipFill>
        <p:spPr>
          <a:xfrm>
            <a:off x="328680" y="420840"/>
            <a:ext cx="8486640" cy="4846320"/>
          </a:xfrm>
          <a:prstGeom prst="rect">
            <a:avLst/>
          </a:prstGeom>
          <a:ln w="0">
            <a:noFill/>
          </a:ln>
        </p:spPr>
      </p:pic>
      <p:sp>
        <p:nvSpPr>
          <p:cNvPr id="94"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Verdana"/>
              </a:rPr>
              <a:t>Abuja. October 1-3, 20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 </a:t>
            </a:r>
            <a:endParaRPr b="1" lang="en-US" sz="3200" spc="-1" strike="noStrike">
              <a:solidFill>
                <a:srgbClr val="6594da"/>
              </a:solidFill>
              <a:latin typeface="Verdana"/>
            </a:endParaRPr>
          </a:p>
        </p:txBody>
      </p:sp>
      <p:sp>
        <p:nvSpPr>
          <p:cNvPr id="119"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es à chaque table travaillent en équipe</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amen de la documentation et étude de cas </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bjectif est de conseiller un point focal technique nouvellement désigné dans votre pays, sur des questions de suivi-évaluation</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la fin de l’</a:t>
            </a:r>
            <a:r>
              <a:rPr b="0" lang="en-US" sz="2200" spc="-1" strike="noStrike">
                <a:solidFill>
                  <a:srgbClr val="000000"/>
                </a:solidFill>
                <a:latin typeface="Verdana"/>
              </a:rPr>
              <a:t>exercice, nous discuterons des résultats</a:t>
            </a: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D7FB-FACF-49BB-8DA2-6CD5E1B1DB33}"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333000"/>
            <a:ext cx="7894800" cy="1655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Suivi des portefeuilles du FEM et des évolutions de l’environnement à l’échelle du pays</a:t>
            </a:r>
            <a:br>
              <a:rPr sz="3200"/>
            </a:br>
            <a:br>
              <a:rPr sz="3200"/>
            </a:br>
            <a:endParaRPr b="1" lang="en-US" sz="3200" spc="-1" strike="noStrike">
              <a:solidFill>
                <a:srgbClr val="6594da"/>
              </a:solidFill>
              <a:latin typeface="Verdana"/>
            </a:endParaRPr>
          </a:p>
        </p:txBody>
      </p:sp>
      <p:sp>
        <p:nvSpPr>
          <p:cNvPr id="122" name=""/>
          <p:cNvSpPr txBox="1"/>
          <p:nvPr/>
        </p:nvSpPr>
        <p:spPr>
          <a:xfrm>
            <a:off x="611280" y="1989000"/>
            <a:ext cx="7921440" cy="4608720"/>
          </a:xfrm>
          <a:prstGeom prst="rect">
            <a:avLst/>
          </a:prstGeom>
          <a:noFill/>
          <a:ln w="0">
            <a:noFill/>
          </a:ln>
        </p:spPr>
        <p:txBody>
          <a:bodyPr lIns="90000" rIns="90000" tIns="46800" bIns="46800" anchor="t">
            <a:normAutofit/>
          </a:bodyPr>
          <a:p>
            <a:pPr marL="514440" indent="-514440">
              <a:spcBef>
                <a:spcPts val="249"/>
              </a:spcBef>
              <a:buClr>
                <a:srgbClr val="4f6228"/>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suivi des portefeuilles-pays du FEM et les évolutions de l’environnement doivent-ils être organisés?</a:t>
            </a:r>
            <a:endParaRPr b="0" lang="en-US" sz="22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i devrait coordonner le suivi des portefeuilles du FEM : le Ministère de l’environnement, le Ministère des finances, le PFT et son bureau, les Entités d’exécution du FEM, ou une autre entité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ls types de données seraient les plus importants à suivre ? Y a-t-il des sources d’information ou des systèmes de données existants qui peuvent être utilisés ?  Comment peut-on intégrer les données des projets dans les systèmes nationaux de données ?</a:t>
            </a:r>
            <a:endParaRPr b="0" lang="en-US" sz="1800" spc="-1" strike="noStrike">
              <a:solidFill>
                <a:srgbClr val="000000"/>
              </a:solidFill>
              <a:latin typeface="Verdana"/>
            </a:endParaRPr>
          </a:p>
          <a:p>
            <a:pPr marL="514440" indent="-51444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vec qui faut-il partager ces informations ? Quel mécanisme de partage de l’information faut-il utiliser ? </a:t>
            </a:r>
            <a:endParaRPr b="0" lang="en-US" sz="1800" spc="-1" strike="noStrike">
              <a:solidFill>
                <a:srgbClr val="000000"/>
              </a:solidFill>
              <a:latin typeface="Verdana"/>
            </a:endParaRPr>
          </a:p>
          <a:p>
            <a:pPr lvl="1" marL="797040" indent="-514440">
              <a:spcBef>
                <a:spcPts val="249"/>
              </a:spcBef>
              <a:buClr>
                <a:srgbClr val="4f622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5D42-4E49-4509-904D-CA26631A1F47}"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FT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5"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participer aux activités de suivi-évaluation ?</a:t>
            </a:r>
            <a:endParaRPr b="0" lang="en-US" sz="22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 quelles activités d’évaluation du FEM le PFT devrait-il être informé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à mi-parcours et finales du FEM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 PFT peut-il participer aux évaluations et études du FEM à l’échelle du pays ? </a:t>
            </a:r>
            <a:endParaRPr b="0" lang="en-US" sz="1800" spc="-1" strike="noStrike">
              <a:solidFill>
                <a:srgbClr val="000000"/>
              </a:solidFill>
              <a:latin typeface="Verdana"/>
            </a:endParaRPr>
          </a:p>
          <a:p>
            <a:pPr marL="457200" indent="-4572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ent les résultats de ces activités d’évaluation peuvent-ils être utilisés par le PFT ? Avec qui ces résultats devraient-ils être partagés ? </a:t>
            </a:r>
            <a:endParaRPr b="0" lang="en-US" sz="1800" spc="-1" strike="noStrike">
              <a:solidFill>
                <a:srgbClr val="000000"/>
              </a:solidFill>
              <a:latin typeface="Verdana"/>
            </a:endParaRPr>
          </a:p>
          <a:p>
            <a:pPr marL="457200" indent="-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E22C-3D86-4C25-8394-8013795F2D6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Participation du PTF </a:t>
            </a:r>
            <a:br>
              <a:rPr sz="3200"/>
            </a:b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	</a:t>
            </a:r>
            <a:r>
              <a:rPr b="1" lang="en-US" sz="3200" spc="-1" strike="noStrike">
                <a:solidFill>
                  <a:srgbClr val="4f6228"/>
                </a:solidFill>
                <a:latin typeface="Verdana"/>
              </a:rPr>
              <a:t>à l’évaluation</a:t>
            </a:r>
            <a:br>
              <a:rPr sz="3200"/>
            </a:br>
            <a:endParaRPr b="1" lang="en-US" sz="3200" spc="-1" strike="noStrike">
              <a:solidFill>
                <a:srgbClr val="6594da"/>
              </a:solidFill>
              <a:latin typeface="Verdana"/>
            </a:endParaRPr>
          </a:p>
        </p:txBody>
      </p:sp>
      <p:sp>
        <p:nvSpPr>
          <p:cNvPr id="128"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buClr>
                <a:srgbClr val="4f6228"/>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Comment le PFT peut-il assurer une remontée de l’information au sujet des termes de référence de l’évaluation ? Quels seraient les principaux paramètres pour lesquels une remontée de l’information devrait être assurée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35E6-9EF8-4505-9794-DE928591B17E}"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00000" y="549000"/>
            <a:ext cx="789480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 national de coordination en matière de suivi-évaluation</a:t>
            </a:r>
            <a:br>
              <a:rPr sz="3200"/>
            </a:br>
            <a:endParaRPr b="1" lang="en-US" sz="3200" spc="-1" strike="noStrike">
              <a:solidFill>
                <a:srgbClr val="6594da"/>
              </a:solidFill>
              <a:latin typeface="Verdana"/>
            </a:endParaRPr>
          </a:p>
        </p:txBody>
      </p:sp>
      <p:sp>
        <p:nvSpPr>
          <p:cNvPr id="131" name=""/>
          <p:cNvSpPr txBox="1"/>
          <p:nvPr/>
        </p:nvSpPr>
        <p:spPr>
          <a:xfrm>
            <a:off x="611280" y="1989000"/>
            <a:ext cx="7921440" cy="3888000"/>
          </a:xfrm>
          <a:prstGeom prst="rect">
            <a:avLst/>
          </a:prstGeom>
          <a:noFill/>
          <a:ln w="0">
            <a:noFill/>
          </a:ln>
        </p:spPr>
        <p:txBody>
          <a:bodyPr lIns="90000" rIns="90000" tIns="46800" bIns="46800" anchor="t">
            <a:normAutofit/>
          </a:bodyPr>
          <a:p>
            <a:pPr marL="457200" indent="-457200">
              <a:spcBef>
                <a:spcPts val="249"/>
              </a:spcBef>
              <a:buClr>
                <a:srgbClr val="4f6228"/>
              </a:buClr>
              <a:buSzPct val="80000"/>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Faut-il un mécanisme national de coordination pour le suivi-évaluation ? Comment devrait-il être construit ?</a:t>
            </a:r>
            <a:endParaRPr b="0" lang="en-US" sz="2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2"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35BE-2B08-45F5-BCB6-451C23494D93}"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560" y="549000"/>
            <a:ext cx="7967880" cy="143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Reflexions sur l’apprentissage</a:t>
            </a:r>
            <a:endParaRPr b="1" lang="en-US" sz="3600" spc="-1" strike="noStrike">
              <a:solidFill>
                <a:srgbClr val="6594da"/>
              </a:solidFill>
              <a:latin typeface="Verdana"/>
            </a:endParaRPr>
          </a:p>
        </p:txBody>
      </p:sp>
      <p:sp>
        <p:nvSpPr>
          <p:cNvPr id="134"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chose que vous avez apprise au cours de cette sess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pensée clé ou un conseil qui vous guidera dans votre future participation aux activités de suivi-évaluation</a:t>
            </a:r>
            <a:endParaRPr b="0" lang="en-US" sz="2200" spc="-1" strike="noStrike">
              <a:solidFill>
                <a:srgbClr val="000000"/>
              </a:solidFill>
              <a:latin typeface="Verdana"/>
            </a:endParaRPr>
          </a:p>
          <a:p>
            <a:pPr marL="264960" indent="-264960">
              <a:spcBef>
                <a:spcPts val="249"/>
              </a:spcBef>
              <a:spcAft>
                <a:spcPts val="1800"/>
              </a:spcAft>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e question à méditer</a:t>
            </a:r>
            <a:endParaRPr b="0" lang="en-US" sz="2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5"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00CA-2C2F-4B9C-8E31-5D372513EB82}"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141360"/>
            <a:ext cx="77724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erci</a:t>
            </a:r>
            <a:endParaRPr b="1" lang="en-US" sz="4000" spc="-1" strike="noStrike">
              <a:solidFill>
                <a:srgbClr val="6594da"/>
              </a:solidFill>
              <a:latin typeface="Verdana"/>
            </a:endParaRPr>
          </a:p>
        </p:txBody>
      </p:sp>
      <p:sp>
        <p:nvSpPr>
          <p:cNvPr id="137" name="PlaceHolder 2"/>
          <p:cNvSpPr>
            <a:spLocks noGrp="1"/>
          </p:cNvSpPr>
          <p:nvPr>
            <p:ph type="subTitle"/>
          </p:nvPr>
        </p:nvSpPr>
        <p:spPr>
          <a:xfrm>
            <a:off x="722160" y="4724280"/>
            <a:ext cx="7772400" cy="144144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gefevaluation@thegef.org</a:t>
            </a:r>
            <a:endParaRPr b="0" lang="en-US" sz="36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Verdana"/>
              </a:rPr>
              <a:t>www.gefeo.org</a:t>
            </a:r>
            <a:endParaRPr b="0" lang="en-US" sz="3600" spc="-1" strike="noStrike">
              <a:solidFill>
                <a:srgbClr val="000000"/>
              </a:solidFill>
              <a:latin typeface="Verdana"/>
            </a:endParaRPr>
          </a:p>
          <a:p>
            <a:pPr indent="0" algn="ctr">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38" name="Рисунок 7" descr=""/>
          <p:cNvPicPr/>
          <p:nvPr/>
        </p:nvPicPr>
        <p:blipFill>
          <a:blip r:embed="rId1"/>
          <a:stretch/>
        </p:blipFill>
        <p:spPr>
          <a:xfrm>
            <a:off x="328680" y="420840"/>
            <a:ext cx="8486640" cy="484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Aperçu général</a:t>
            </a:r>
            <a:endParaRPr b="1" lang="en-US" sz="3200" spc="-1" strike="noStrike">
              <a:solidFill>
                <a:srgbClr val="6594da"/>
              </a:solidFill>
              <a:latin typeface="Verdana"/>
            </a:endParaRPr>
          </a:p>
        </p:txBody>
      </p:sp>
      <p:sp>
        <p:nvSpPr>
          <p:cNvPr id="96" name=""/>
          <p:cNvSpPr txBox="1"/>
          <p:nvPr/>
        </p:nvSpPr>
        <p:spPr>
          <a:xfrm>
            <a:off x="611280" y="1557000"/>
            <a:ext cx="7921440" cy="4319640"/>
          </a:xfrm>
          <a:prstGeom prst="rect">
            <a:avLst/>
          </a:prstGeom>
          <a:noFill/>
          <a:ln w="0">
            <a:noFill/>
          </a:ln>
        </p:spPr>
        <p:txBody>
          <a:bodyPr lIns="90000" rIns="90000" tIns="46800" bIns="46800" anchor="t">
            <a:normAutofit/>
          </a:bodyPr>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f7f7f"/>
                </a:solidFill>
                <a:latin typeface="Verdana"/>
              </a:rPr>
              <a:t>Activités</a:t>
            </a:r>
            <a:r>
              <a:rPr b="0" lang="en-US" sz="2800" spc="-1" strike="noStrike">
                <a:solidFill>
                  <a:srgbClr val="7f7f7f"/>
                </a:solidFill>
                <a:latin typeface="Verdana"/>
              </a:rPr>
              <a:t> de suivi-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rincipaux rôles et responsabilités</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Bureau de l’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Politique de suivi et d’évaluation du FEM</a:t>
            </a:r>
            <a:endParaRPr b="0" lang="en-US" sz="2800" spc="-1" strike="noStrike">
              <a:solidFill>
                <a:srgbClr val="000000"/>
              </a:solidFill>
              <a:latin typeface="Verdana"/>
            </a:endParaRPr>
          </a:p>
          <a:p>
            <a:pPr marL="264960" indent="-264960">
              <a:spcBef>
                <a:spcPts val="1800"/>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Verdana"/>
              </a:rPr>
              <a:t>Exercice pratique</a:t>
            </a: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B279-AB0E-4521-B589-BAE3A7746CBF}"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00000" y="549360"/>
            <a:ext cx="78948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Le suivi et l’évaluation au FEM</a:t>
            </a:r>
            <a:endParaRPr b="1" lang="en-US" sz="3200" spc="-1" strike="noStrike">
              <a:solidFill>
                <a:srgbClr val="6594da"/>
              </a:solidFill>
              <a:latin typeface="Verdana"/>
            </a:endParaRPr>
          </a:p>
        </p:txBody>
      </p:sp>
      <p:sp>
        <p:nvSpPr>
          <p:cNvPr id="99" name=""/>
          <p:cNvSpPr txBox="1"/>
          <p:nvPr/>
        </p:nvSpPr>
        <p:spPr>
          <a:xfrm>
            <a:off x="611280" y="1267920"/>
            <a:ext cx="7921440" cy="504036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f7f7f"/>
                </a:solidFill>
                <a:latin typeface="Verdana"/>
              </a:rPr>
              <a:t>DEUX PRINCIPAUX OBJECTIFS :</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obligation de rendre compte de la réalisation des objectifs du FEM grâce à l’évaluation des résultats, de l’efficacité, des processus et de la performance des acteurs prenant part aux activités du FEM</a:t>
            </a:r>
            <a:endParaRPr b="0" lang="en-US" sz="2200" spc="-1" strike="noStrike">
              <a:solidFill>
                <a:srgbClr val="000000"/>
              </a:solidFill>
              <a:latin typeface="Verdana"/>
            </a:endParaRPr>
          </a:p>
          <a:p>
            <a:pPr marL="270000">
              <a:spcBef>
                <a:spcPts val="119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mouvoir le transfert des connaissances, la remontée de l’information et le partage des acquis en ce qui concerne les résultats et les enseignements tirés de l’expérience, entre le FEM et ses organes, comme fondement de la prise de décisions sur les politiques, les stratégies, la gestion des programmes et les projets, afin d’améliorer la performance</a:t>
            </a:r>
            <a:endParaRPr b="0" lang="en-US" sz="2200" spc="-1" strike="noStrike">
              <a:solidFill>
                <a:srgbClr val="000000"/>
              </a:solidFill>
              <a:latin typeface="Verdana"/>
            </a:endParaRPr>
          </a:p>
          <a:p>
            <a:pPr marL="27000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4471-4F05-4F6A-980F-8E0EC9685D68}"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60" y="1125000"/>
            <a:ext cx="7921800" cy="5256360"/>
          </a:xfrm>
          <a:prstGeom prst="rect">
            <a:avLst/>
          </a:prstGeom>
          <a:noFill/>
          <a:ln w="0">
            <a:noFill/>
          </a:ln>
        </p:spPr>
        <p:txBody>
          <a:bodyPr lIns="90000" rIns="90000" tIns="46800" bIns="46800" anchor="t">
            <a:normAutofit/>
          </a:bodyPr>
          <a:p>
            <a:pPr marL="264960" indent="-264960">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02" name=""/>
          <p:cNvGraphicFramePr/>
          <p:nvPr/>
        </p:nvGraphicFramePr>
        <p:xfrm>
          <a:off x="395280" y="260280"/>
          <a:ext cx="8497800" cy="6332760"/>
        </p:xfrm>
        <a:graphic>
          <a:graphicData uri="http://schemas.openxmlformats.org/drawingml/2006/table">
            <a:tbl>
              <a:tblPr/>
              <a:tblGrid>
                <a:gridCol w="2319480"/>
                <a:gridCol w="6178320"/>
              </a:tblGrid>
              <a:tr h="6127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artenaires</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Principaux rôles et responsabilités en matière de suivi et d’évaluation</a:t>
                      </a:r>
                      <a:endParaRPr b="0" lang="en-US" sz="16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r>
              <a:tr h="682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laboration de la politiqu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es fonctions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réation d’un environnement favorable au suivi et à l’évalua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76500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Bureau de l’évaluation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u F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pervision du suivi et de l’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éfinition des exigences minimales d’évaluation a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39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crétariat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Gestion axée sur les résultats (suivi et établissement de rappo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xamen des normes de suivi-évaluation du FEM dans les propositions de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8542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opérationnels des Entités d’’exécution chargés du FEM</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uivi du portefeuille de projets du FEM des Entités d’exécu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Vérification du suivi et de l’évaluation au niveau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85248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ervices de l’évaluation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valuation indépendante de projets et programmes ou des services des Entités d’exécu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ise en compte systématique du FEM dans les évaluations pertinentes des Entités d’exécution</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641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STAP</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nseils scientifiques et techniques en matière de suivi et d’é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ppui à l’élaboration d’indicateurs scientifiques et techniqu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noFill/>
                  </a:tcPr>
                </a:tc>
              </a:tr>
              <a:tr h="49212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ys participant</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llaboration en matière de suivi-évaluation au niveau des portefeuilles-pays et des projet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r h="578160">
                <a:tc>
                  <a:txBody>
                    <a:bodyPr lIns="144000" rIns="144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es prenante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c>
                  <a:txBody>
                    <a:bodyPr lIns="144000" rIns="144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articipation aux activités et aux mécanismes de suiv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vis et points de vue concernant les évaluations</a:t>
                      </a:r>
                      <a:endParaRPr b="0" lang="en-US" sz="1400" spc="-1" strike="noStrike">
                        <a:solidFill>
                          <a:srgbClr val="000000"/>
                        </a:solidFill>
                        <a:latin typeface="Arial"/>
                      </a:endParaRPr>
                    </a:p>
                  </a:txBody>
                  <a:tcPr anchor="ctr" marL="144000" marR="144000">
                    <a:lnL w="5760">
                      <a:solidFill>
                        <a:srgbClr val="000000"/>
                      </a:solidFill>
                    </a:lnL>
                    <a:lnR w="5760">
                      <a:solidFill>
                        <a:srgbClr val="000000"/>
                      </a:solidFill>
                    </a:lnR>
                    <a:lnT w="5760">
                      <a:solidFill>
                        <a:srgbClr val="000000"/>
                      </a:solidFill>
                    </a:lnT>
                    <a:lnB w="5760">
                      <a:solidFill>
                        <a:srgbClr val="000000"/>
                      </a:solidFill>
                    </a:lnB>
                    <a:solidFill>
                      <a:srgbClr val="d7e4bd"/>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71280" y="1557000"/>
            <a:ext cx="7561080" cy="431964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Mission</a:t>
            </a:r>
            <a:endParaRPr b="0" lang="en-US" sz="26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C</a:t>
            </a:r>
            <a:r>
              <a:rPr b="0" lang="fr-FR" sz="2600" spc="-1" strike="noStrike">
                <a:solidFill>
                  <a:srgbClr val="000000"/>
                </a:solidFill>
                <a:latin typeface="Verdana"/>
              </a:rPr>
              <a:t>ontribuer à améliorer l’état environnemental de la planète en assurant l’excellence, l’indépendance et l’esprit de partenariat de ses activités de suivi et d’évaluation</a:t>
            </a:r>
            <a:r>
              <a:rPr b="0" lang="en-US" sz="2600" spc="-1" strike="noStrike">
                <a:solidFill>
                  <a:srgbClr val="000000"/>
                </a:solidFill>
                <a:latin typeface="Verdana"/>
              </a:rPr>
              <a:t>”</a:t>
            </a:r>
            <a:endParaRPr b="0" lang="en-US" sz="2600" spc="-1" strike="noStrike">
              <a:solidFill>
                <a:srgbClr val="000000"/>
              </a:solidFill>
              <a:latin typeface="Verdana"/>
            </a:endParaRPr>
          </a:p>
          <a:p>
            <a:pPr>
              <a:spcBef>
                <a:spcPts val="249"/>
              </a:spcBef>
              <a:buClr>
                <a:srgbClr val="4f6228"/>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Bureau de l’évaluation du FEM</a:t>
            </a:r>
            <a:endParaRPr b="0" lang="en-US" sz="3200" spc="-1" strike="noStrike">
              <a:solidFill>
                <a:srgbClr val="000000"/>
              </a:solidFill>
              <a:latin typeface="Arial"/>
            </a:endParaRPr>
          </a:p>
        </p:txBody>
      </p:sp>
      <p:sp>
        <p:nvSpPr>
          <p:cNvPr id="105"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B5AB-96BD-431D-A7DE-C5B7BCF369A9}"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55280" y="884160"/>
            <a:ext cx="7921800" cy="59738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e en oeuvre de la politique de suivi et d’évaluation du FEM,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ésentation des rapports annuels au Conseil :</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et des processus (mai-juin)</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impact (novembre)</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et transversales (novembre)</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age des acqui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ffusion des enseignements tiré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u programme d’aide au pays</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inquième bilan global du FEM(OPS5)</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tion active dans les collectivités chargées de l’évaluation </a:t>
            </a:r>
            <a:endParaRPr b="0" lang="en-US" sz="2200" spc="-1" strike="noStrike">
              <a:solidFill>
                <a:srgbClr val="000000"/>
              </a:solidFill>
              <a:latin typeface="Verdana"/>
            </a:endParaRPr>
          </a:p>
        </p:txBody>
      </p:sp>
      <p:sp>
        <p:nvSpPr>
          <p:cNvPr id="107"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Le Bureau d’évaluation du FEM pendant FEM-5</a:t>
            </a:r>
            <a:endParaRPr b="0" lang="en-US" sz="2200" spc="-1" strike="noStrike">
              <a:solidFill>
                <a:srgbClr val="000000"/>
              </a:solidFill>
              <a:latin typeface="Arial"/>
            </a:endParaRPr>
          </a:p>
        </p:txBody>
      </p:sp>
      <p:sp>
        <p:nvSpPr>
          <p:cNvPr id="108"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3DA8-8D76-45A8-87EB-147FB43270C4}"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5440" y="1557360"/>
            <a:ext cx="7937280" cy="5300640"/>
          </a:xfrm>
          <a:prstGeom prst="rect">
            <a:avLst/>
          </a:prstGeom>
          <a:noFill/>
          <a:ln w="0">
            <a:noFill/>
          </a:ln>
        </p:spPr>
        <p:txBody>
          <a:bodyPr lIns="90000" rIns="90000" tIns="46800" bIns="46800" anchor="t">
            <a:normAutofit/>
          </a:bodyPr>
          <a:p>
            <a:pPr marL="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Quatre axes d’évaluation:</a:t>
            </a:r>
            <a:endParaRPr b="0" lang="en-US" sz="2600" spc="-1" strike="noStrike">
              <a:solidFill>
                <a:srgbClr val="000000"/>
              </a:solidFill>
              <a:latin typeface="Verdana"/>
            </a:endParaRPr>
          </a:p>
          <a:p>
            <a:pPr marL="270000">
              <a:lnSpc>
                <a:spcPct val="150000"/>
              </a:lnSpc>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portefeuilles-pays : jusqu’à 15 pays pendant FEM-5</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tudes d’impact : eaux internationales, changement climatique, biodiversité</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de la performance : rapport annuel de la performance, examens indépendants des processu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ions thématiques: stratégies dans les domaines d’intervention, adaptation, activités habilitantes</a:t>
            </a:r>
            <a:endParaRPr b="0" lang="en-US" sz="2200" spc="-1" strike="noStrike">
              <a:solidFill>
                <a:srgbClr val="000000"/>
              </a:solidFill>
              <a:latin typeface="Verdana"/>
            </a:endParaRPr>
          </a:p>
        </p:txBody>
      </p:sp>
      <p:sp>
        <p:nvSpPr>
          <p:cNvPr id="110"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Verdana"/>
              </a:rPr>
              <a:t>Bureau de l’évaluation du FEM pendant FEM-5</a:t>
            </a:r>
            <a:endParaRPr b="0" lang="en-US" sz="2200" spc="-1" strike="noStrike">
              <a:solidFill>
                <a:srgbClr val="000000"/>
              </a:solidFill>
              <a:latin typeface="Arial"/>
            </a:endParaRPr>
          </a:p>
        </p:txBody>
      </p:sp>
      <p:sp>
        <p:nvSpPr>
          <p:cNvPr id="111"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18DC-6AA6-4208-A2A5-7F9D428E0E57}"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11280" y="1557360"/>
            <a:ext cx="7921440" cy="5300640"/>
          </a:xfrm>
          <a:prstGeom prst="rect">
            <a:avLst/>
          </a:prstGeom>
          <a:noFill/>
          <a:ln w="0">
            <a:noFill/>
          </a:ln>
        </p:spPr>
        <p:txBody>
          <a:bodyPr lIns="90000" rIns="90000" tIns="46800" bIns="46800" anchor="t">
            <a:normAutofit/>
          </a:bodyPr>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rouvée par le Conseil du FEM en novembre 2010</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éfinit les normes et standards en matière de suivi-évaluation</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rend les exigences minimales en matière de suivi-évaluation des activités du FEM, et les rôles et responsabilités des acteurs du FEM</a:t>
            </a:r>
            <a:endParaRPr b="0" lang="en-US" sz="2200" spc="-1" strike="noStrike">
              <a:solidFill>
                <a:srgbClr val="000000"/>
              </a:solidFill>
              <a:latin typeface="Verdana"/>
            </a:endParaRPr>
          </a:p>
          <a:p>
            <a:pPr marL="264960" indent="-26496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 davantage l’accent sur l’appropriation par le pays et sur le rôle des points focaux nationaux</a:t>
            </a: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3" name="Заголовок 1"/>
          <p:cNvSpPr/>
          <p:nvPr/>
        </p:nvSpPr>
        <p:spPr>
          <a:xfrm>
            <a:off x="900000" y="549360"/>
            <a:ext cx="7894800" cy="57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f6228"/>
                </a:solidFill>
                <a:latin typeface="Verdana"/>
              </a:rPr>
              <a:t>Politique du FEM en matière de suivi et d’évaluation</a:t>
            </a:r>
            <a:endParaRPr b="0" lang="en-US" sz="1900" spc="-1" strike="noStrike">
              <a:solidFill>
                <a:srgbClr val="000000"/>
              </a:solidFill>
              <a:latin typeface="Arial"/>
            </a:endParaRPr>
          </a:p>
        </p:txBody>
      </p:sp>
      <p:sp>
        <p:nvSpPr>
          <p:cNvPr id="114" name="Slide Number Placeholder 1"/>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AB6B-448E-4E4B-AA40-E7AEDAB602EF}"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549360"/>
            <a:ext cx="796788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Exercice pratique</a:t>
            </a:r>
            <a:endParaRPr b="1" lang="en-US" sz="3200" spc="-1" strike="noStrike">
              <a:solidFill>
                <a:srgbClr val="6594da"/>
              </a:solidFill>
              <a:latin typeface="Verdana"/>
            </a:endParaRPr>
          </a:p>
        </p:txBody>
      </p:sp>
      <p:sp>
        <p:nvSpPr>
          <p:cNvPr id="116" name=""/>
          <p:cNvSpPr txBox="1"/>
          <p:nvPr/>
        </p:nvSpPr>
        <p:spPr>
          <a:xfrm>
            <a:off x="611280" y="1557000"/>
            <a:ext cx="7921440" cy="4319640"/>
          </a:xfrm>
          <a:prstGeom prst="rect">
            <a:avLst/>
          </a:prstGeom>
          <a:noFill/>
          <a:ln w="0">
            <a:noFill/>
          </a:ln>
        </p:spPr>
        <p:txBody>
          <a:bodyPr lIns="90000" rIns="90000" tIns="46800" bIns="46800" anchor="t">
            <a:normAutofit/>
          </a:bodyPr>
          <a:p>
            <a:pPr marL="2700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f7f7f"/>
                </a:solidFill>
                <a:latin typeface="Verdana"/>
              </a:rPr>
              <a:t>Objectif:</a:t>
            </a:r>
            <a:endParaRPr b="0" lang="en-US" sz="26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eux comprendre les activités de suivi-évaluation du FEM à l’échelle des pays</a:t>
            </a:r>
            <a:endParaRPr b="0" lang="en-US" sz="2200" spc="-1" strike="noStrike">
              <a:solidFill>
                <a:srgbClr val="000000"/>
              </a:solidFill>
              <a:latin typeface="Verdana"/>
            </a:endParaRPr>
          </a:p>
          <a:p>
            <a:pPr lvl="1" marL="547560" indent="-199800">
              <a:spcBef>
                <a:spcPts val="119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amment le rôle des points focaux techniques et autres parties prenantes au niveau national</a:t>
            </a:r>
            <a:endParaRPr b="0" lang="en-US" sz="18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iscuter des questions pratiques liées à la conception et à l’utilisation des systèmes de suivi-évaluation dans votre pays</a:t>
            </a:r>
            <a:endParaRPr b="0" lang="en-US" sz="2200" spc="-1" strike="noStrike">
              <a:solidFill>
                <a:srgbClr val="000000"/>
              </a:solidFill>
              <a:latin typeface="Verdana"/>
            </a:endParaRPr>
          </a:p>
          <a:p>
            <a:pPr marL="270000">
              <a:spcBef>
                <a:spcPts val="119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700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17"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9C56-E44D-4673-AFF2-7234EAB32D8E}" type="slidenum">
              <a:rPr b="0" lang="ru-RU" sz="1000" spc="-1" strike="noStrike">
                <a:solidFill>
                  <a:srgbClr val="afada5"/>
                </a:solidFill>
                <a:latin typeface="Verdan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01:46:11Z</dcterms:created>
  <dc:creator>Dima</dc:creator>
  <dc:description/>
  <dc:language>en-US</dc:language>
  <cp:lastModifiedBy>Ruben Sardon Martin</cp:lastModifiedBy>
  <dcterms:modified xsi:type="dcterms:W3CDTF">2013-09-18T19:21:43Z</dcterms:modified>
  <cp:revision>95</cp:revision>
  <dc:subject/>
  <dc:title>Презентация PowerPoint</dc:title>
</cp:coreProperties>
</file>