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4F93-98CA-44B4-AA9B-86087560FF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F2BB-079C-4E10-80D0-F52F66905D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3C8-D832-4D2B-8335-51BDD6BD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AA9A-365D-4903-AC52-5CFD68C6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78F-5C54-4DFD-9AA3-A61459B0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E7E-AA6A-4D87-9114-5B441E14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C66D-A46E-4B2B-95B0-868968DC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32C7-38FD-4A0F-B5CB-D5F30530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5C88-C7FD-48EF-B12D-4C1162D5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74DD-000F-43F7-B863-EB7AA9F8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6E5B-D5F0-4933-B216-1E89036D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3A53-B7BD-41C5-B198-49CB9405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F4BE-B890-412A-833C-237E04DE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CC9-0135-4D8A-A883-9DB1F27C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D0AB-F009-4A94-AFDD-05DA2696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DD05-CFE8-4E9C-BEA0-695B36F6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0E15-5A09-4084-B88F-C33EB340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9A30-F4BF-43C4-A1CB-8308C5AF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0102-17D3-4F28-B4AB-C84E33EA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568-8892-40BC-B3B0-9D82AEBA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56D8-39E8-45D1-8A4B-C0F79D7B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A023-3247-40A3-ABEE-3F747054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E43C-6493-4AF3-9F11-FAB7264B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FD53-A2E3-4452-AF2B-E6641CAD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B95-E384-4950-BA1A-F67534CF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478-78DD-4FA9-82FC-3F15EE9D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2058-2D55-417D-BC3B-E6A27CF897DF}" type="slidenum">
              <a:rPr b="0" lang="ru-RU" sz="10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fada5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62EA-B7A0-443B-AB69-9858DDC46D20}" type="slidenum">
              <a:rPr b="0" lang="ru-RU" sz="10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94da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3d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24"/>
              </a:spcBef>
              <a:buClr>
                <a:srgbClr val="ff3d39"/>
              </a:buClr>
              <a:buSzPct val="112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beff4b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4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920" y="4005000"/>
            <a:ext cx="84247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كيف يمكن لأصحاب المصلحة على الصعيد القطري المشارك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تمرين جماع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2" descr="D:\KsenSite\0001\GEF_EO_logo.jpg"/>
          <p:cNvPicPr/>
          <p:nvPr/>
        </p:nvPicPr>
        <p:blipFill>
          <a:blip r:embed="rId1"/>
          <a:stretch/>
        </p:blipFill>
        <p:spPr>
          <a:xfrm>
            <a:off x="611280" y="5245200"/>
            <a:ext cx="2952720" cy="909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852280"/>
            <a:ext cx="79898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600" spc="-1" strike="noStrike">
                <a:solidFill>
                  <a:srgbClr val="4f6228"/>
                </a:solidFill>
                <a:latin typeface="Verdana"/>
                <a:cs typeface="Tahoma"/>
              </a:rPr>
              <a:t>الرصد والتقييم في مرفق البيئة العالمي</a:t>
            </a: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pic>
        <p:nvPicPr>
          <p:cNvPr id="92" name="Рисунок 7" descr=""/>
          <p:cNvPicPr/>
          <p:nvPr/>
        </p:nvPicPr>
        <p:blipFill>
          <a:blip r:embed="rId2"/>
          <a:stretch/>
        </p:blipFill>
        <p:spPr>
          <a:xfrm>
            <a:off x="328680" y="420840"/>
            <a:ext cx="848664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79678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تمرين عملي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عمل المجموعات على كل طاولة كفري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ستعراض المواد المرجعية ودراسات الحالات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يشتمل الهدف على إطلاع مركز لتنسيق العمليات تمّ تعيينه حديثاً في بلدكم، على المسائل المتعلقة بالرصد والتقيي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في نهاية التمرين، سنناقش النتائج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94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رصد حافظة عمليات مرفق البيئة العاملية والإتجاهات البيئية على الصعيد القطري </a:t>
            </a:r>
            <a:r>
              <a:rPr b="1" lang="en-US" sz="3200" spc="-1" strike="noStrike">
                <a:solidFill>
                  <a:srgbClr val="4f6228"/>
                </a:solidFill>
                <a:latin typeface="Verdana"/>
              </a:rPr>
              <a:t>	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1280" y="1989000"/>
            <a:ext cx="7921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just" rtl="1">
              <a:spcBef>
                <a:spcPts val="249"/>
              </a:spcBef>
              <a:buClr>
                <a:srgbClr val="4f622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كيف ينبغي تنظيم رصد حافظة عمليات مرفق البيئة العالمي والاتجاهات البيئية على الصعيد القطري ؟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من الذي ينبغي أن ينسّق رصد حافظة مرفق البيئة العالمي - وزارة البيئة أو وزارة المالية أو مركز تنسيق العمليات ومكتبه أو وكالات مرفق البيئة العالمي أو أي هيئة آخرى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ما هي أهم أنواع البيانات التي سينبغي رصدها ؟ هل هناك أي مصادر حالية للمعلومات أو نظم بيانات يمكن استخدامها ؟ كيف يمكن إدراج البيانات من المشاريع في نظم البيانات الوطنية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مع من ينبغي تشاطر هذه المعلومات ؟ ما هي آليات تشاطر المعلومات التي سيتم استخدامها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94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مشاركة مركز تنسيق العمليات</a:t>
            </a:r>
            <a:br>
              <a:rPr sz="3200"/>
            </a:b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في التقييم</a:t>
            </a:r>
            <a:br>
              <a:rPr sz="3200"/>
            </a:b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1989000"/>
            <a:ext cx="7921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 rtl="1">
              <a:buClr>
                <a:srgbClr val="4f6228"/>
              </a:buClr>
              <a:buSzPct val="8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كيف يمكن لمركز تنسيق العمليات المشاركة في أنشطة الرصد والتقييم ؟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ما هي أنشطة تقييم مرفق البيئة العالمي التي ينبغي إطلاع مركز تنسيق العمليات عليها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كيف يمكن لمركز تنسيق العمليات المشاركة في عمليات التقييم المنتصفة المدة والنهائية لمرفق البيئة العالمي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كيف يمكن لمركز تنسيق العمليات المشاركة في عمليات تقييم ودراسات مرفق البيئة العالمي على المستوى القطري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كيف ينبغي استخدام النتائج من أنشطة التقييم هذه من قبل مركز تنسيق العمليات ؟ مع من ينبغي تبادلها ؟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94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مشاركة مركز تنسيق العمليات</a:t>
            </a:r>
            <a:br>
              <a:rPr sz="3200"/>
            </a:b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ea typeface="Tahoma"/>
              </a:rPr>
              <a:t>	</a:t>
            </a: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في التقييم </a:t>
            </a:r>
            <a:br>
              <a:rPr sz="3200"/>
            </a:b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11280" y="1989000"/>
            <a:ext cx="7921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 rtl="1">
              <a:buClr>
                <a:srgbClr val="4f6228"/>
              </a:buClr>
              <a:buSzPct val="8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كيف يمكن لمركز تنسيق العمليات توفير المعلومات المرتجعة لاختصاصات التقييم ؟ ما هي أهم المعايير لتوفير المعلومات المرتجعة بشأنها ؟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94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آلية التنسيق الوطنية للرصد والتقييم </a:t>
            </a:r>
            <a:br>
              <a:rPr sz="3200"/>
            </a:b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1280" y="1989000"/>
            <a:ext cx="79214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 rtl="1">
              <a:spcBef>
                <a:spcPts val="249"/>
              </a:spcBef>
              <a:buClr>
                <a:srgbClr val="4f6228"/>
              </a:buClr>
              <a:buSzPct val="8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هل يجب أن يكون هناك آلية تنسيق وطنية للرصد والتقييم ؟ كيف ينبغي وضعها ؟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9678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600" spc="-1" strike="noStrike">
                <a:solidFill>
                  <a:srgbClr val="4f6228"/>
                </a:solidFill>
                <a:latin typeface="Verdana"/>
                <a:cs typeface="Tahoma"/>
              </a:rPr>
              <a:t>أفكار بشأن التعلم</a:t>
            </a:r>
            <a:br>
              <a:rPr sz="3600"/>
            </a:br>
            <a:endParaRPr b="1" lang="en-US" sz="36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أمر واحد تعلمته في هذه الدور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فكرة أو نصيحة رئيسية من شأنها توجيه مشاركتك المستقبلية في الرصد والتقيي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249"/>
              </a:spcBef>
              <a:spcAft>
                <a:spcPts val="1800"/>
              </a:spcAft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سؤال ينبغي التفكير فيه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141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000" spc="-1" strike="noStrike">
                <a:solidFill>
                  <a:srgbClr val="4f6228"/>
                </a:solidFill>
                <a:latin typeface="Verdana"/>
                <a:cs typeface="Tahoma"/>
              </a:rPr>
              <a:t>شكراً</a:t>
            </a:r>
            <a:endParaRPr b="1" lang="en-US" sz="40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22160" y="47242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Verdana"/>
              </a:rPr>
              <a:t>gefevaluation@thegef.or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Verdana"/>
              </a:rPr>
              <a:t>www.gefeo.or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Рисунок 7" descr=""/>
          <p:cNvPicPr/>
          <p:nvPr/>
        </p:nvPicPr>
        <p:blipFill>
          <a:blip r:embed="rId1"/>
          <a:stretch/>
        </p:blipFill>
        <p:spPr>
          <a:xfrm>
            <a:off x="328680" y="420840"/>
            <a:ext cx="8486640" cy="48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لمحة عامة 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الرصد والتقييم في مرفق البيئة العالم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الأدوار والمسؤوليات الرئيسي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مكتب تقييم مرفق البيئة العالمي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سياسة الرصد والتقييم الخاصة بمرفق البيئة العالم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800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7f7f7f"/>
                </a:solidFill>
                <a:latin typeface="Verdana"/>
                <a:cs typeface="Tahoma"/>
              </a:rPr>
              <a:t>تمرين عمل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الرصد والتقييم في مرفق البيئة العالمي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11280" y="155700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algn="just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200" spc="-1" strike="noStrike">
                <a:solidFill>
                  <a:srgbClr val="7f7f7f"/>
                </a:solidFill>
                <a:latin typeface="Verdana"/>
                <a:cs typeface="Tahoma"/>
              </a:rPr>
              <a:t>هدفان رئيسيان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عزيز موجب التبليغ عن تحقيق أهداف مرفق البيئة العالمي من خلال تقييم النتائج والفعالية والعمليات وأداء الشركاء المشاركين في أنشطة مرفق البيئة العالم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عزيز التعلم والمعلومات المرتجعة وتبادل المعرفة بشأن النتائج والدروس المستفادة بين مرفق البيئة العالمي وشركائه بمثابة أساس لصنع القرارات في ما يتعلق بالسياسات والإستراتيجيات وإدارة البرامج والبرامج والمشاريع ؛ وتحسين المعرفة والأداء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-360" y="1125000"/>
            <a:ext cx="7921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0"/>
          <a:ext cx="8136000" cy="6635880"/>
        </p:xfrm>
        <a:graphic>
          <a:graphicData uri="http://schemas.openxmlformats.org/drawingml/2006/table">
            <a:tbl>
              <a:tblPr/>
              <a:tblGrid>
                <a:gridCol w="5614920"/>
                <a:gridCol w="2521080"/>
              </a:tblGrid>
              <a:tr h="622080">
                <a:tc>
                  <a:txBody>
                    <a:bodyPr lIns="144000" rIns="14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أدوار والمسؤوليات الرئيسية على صعيد الرصد والتقيي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L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شري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9228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صنع السياس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إشرا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بيئة التسهيلية للرصد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مجلس مرفق البيئة العالم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قييم مستقل من قبل مرفق البيئة العالم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إشراف على الرصد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حديد المتطلبات الدنيا ل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مكتب تقييم مرفق البيئة العالم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49220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إدارة القائمة على النتائج (الرصد والإبلا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ستعراض متطلبات الرصد والتقييم الخاصة بمرفق البيئة العالمي في مقترحات المشاري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أمانة مرفق البيئة العالم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73080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رصد حافظة عماليات مرفق البيئة العالمي الخاصة بالوكا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ضمان الرصد والتقييم على مستوى المشر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وحدات العمليات التابعة للوكا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قييم المشروع و / أو المؤسسات من قبل الوكا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خذ مرفق البيئة العالمي بعين الاعتبار في تقييمات الوكالة ذات الص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وحدات التقييم التابعة للوكال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قديم المشورة بشأن المسائل العلمية / الفنية على صعيد الرصد والتقيي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دعم المؤشرات العلمية والفن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فريق الاستشاري العلمي والتقن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تعاون بشأن الرصد والتقييم على مستوى المحافظ والمشاري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بلدان المشارك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585720">
                <a:tc>
                  <a:txBody>
                    <a:bodyPr lIns="144000" rIns="144000" tIns="0" bIns="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المشاركة في أنشطة وآليات الرص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تقديم وجهات النظر والآراء في ما يتعلق بالتقييم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144000" rIns="14400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L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أصحاب المصلح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44000" marR="14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71280" y="1557000"/>
            <a:ext cx="7561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7f7f7f"/>
                </a:solidFill>
                <a:latin typeface="Verdana"/>
                <a:cs typeface="Tahoma"/>
              </a:rPr>
              <a:t>المهم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 rtl="1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ar-LB" sz="2600" spc="-1" strike="noStrike">
                <a:solidFill>
                  <a:srgbClr val="000000"/>
                </a:solidFill>
                <a:latin typeface="Verdana"/>
                <a:cs typeface="Tahoma"/>
              </a:rPr>
              <a:t>تعزيز المنافع البيئية العالمية من خلال الإمتياز والاستقلال والشراكة على صعيد الرصد والتقييم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4f622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مكتب تقييم مرفق البيئة العال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155700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نفيذ سياسة الرصد والتقييم الخاصة بمرفق البيئة العالمي لعام 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201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رفع التقارير السنوية إلى المجلس 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تقييمات على مستوى البلد (أيار / مايو – حزيران / يونيو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مسائل المتعلقة بالأداء والعمليات(أيار / مايو – حزيران / يونيو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تأثير (تشرين الثاني / نوفمبر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 مجال التركيز / المسائل المشتركة (تشرين الثاني / نوفمبر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بادل المعرف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نشر الدروس المستفاد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31000" indent="-193680" algn="just" rtl="1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مشاركة في برنامج دعم البل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دراسة الخامسة للأداء الإجمالي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PS5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المشاركة النشاطة في المجموعات المعنيّة بالتقييم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Заголовок 1"/>
          <p:cNvSpPr/>
          <p:nvPr/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900" spc="-1" strike="noStrike">
                <a:solidFill>
                  <a:srgbClr val="4f6228"/>
                </a:solidFill>
                <a:latin typeface="Verdana"/>
                <a:cs typeface="Tahoma"/>
              </a:rPr>
              <a:t>مكتب تقييم مرفق البيئة العالمي في العملية الخامسة لتحديد موارد مرفق البيئة العالم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95440" y="1557360"/>
            <a:ext cx="79372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7f7f7f"/>
                </a:solidFill>
                <a:latin typeface="Verdana"/>
                <a:cs typeface="Tahoma"/>
              </a:rPr>
              <a:t>أربعة محاور للتقيي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lnSpc>
                <a:spcPct val="150000"/>
              </a:lnSpc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ات الحافظات على الصعيد الوطني : حتى 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15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 بلد خلال العملية الخامسة لتحديد موارد مرفق البيئة العالم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ات الأثر : المياه الدولية، تغير المناخ، التنوع البيولوج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ات الأداء : تقرير الأداء السنوي، الاستعراض المستقل للعمليات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قييمات مجالات التركيز: استراتيجيات مجالات التركيز، التكييف، الأنشطة التسهيلي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900" spc="-1" strike="noStrike">
                <a:solidFill>
                  <a:srgbClr val="4f6228"/>
                </a:solidFill>
                <a:latin typeface="Verdana"/>
                <a:cs typeface="Tahoma"/>
              </a:rPr>
              <a:t>مكتب تقييم مرفق البيئة العالمي في العملية الخامسة لتحديد موارد مرفق البيئة العالم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1557360"/>
            <a:ext cx="7921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م إقرارها من قبل مجلس مرفق البيئة العالمي في تشرين الثاني / نوفمبر </a:t>
            </a:r>
            <a:r>
              <a:rPr b="0" lang="ar-LB" sz="2200" spc="-1" strike="noStrike">
                <a:solidFill>
                  <a:srgbClr val="000000"/>
                </a:solidFill>
                <a:latin typeface="Verdana"/>
                <a:ea typeface="Tahoma"/>
              </a:rPr>
              <a:t>201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حدد مبادئ ومعايير الرصد والتقيي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تضمن المتطلبات الدنيا لرصد وتقييم أنشطة مرفق البيئة العالمي، وأدوار ومسؤوليات أصحاب المصلحة المعنية بمرفق البيئة العالم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تركز أكثر على شعور البلدان بالالتزام الذاتب وعلى دور مراكز التنسيق القطري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900000" y="549360"/>
            <a:ext cx="7894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4f6228"/>
                </a:solidFill>
                <a:latin typeface="Verdana"/>
                <a:cs typeface="Tahoma"/>
              </a:rPr>
              <a:t>سياسة الرصد والتقييم الخاصة بمرفق البيئة العال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79678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4f6228"/>
                </a:solidFill>
                <a:latin typeface="Verdana"/>
                <a:cs typeface="Tahoma"/>
              </a:rPr>
              <a:t>تمرين عملي</a:t>
            </a:r>
            <a:endParaRPr b="1" lang="en-US" sz="3200" spc="-1" strike="noStrike">
              <a:solidFill>
                <a:srgbClr val="6594da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557000"/>
            <a:ext cx="79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algn="just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600" spc="-1" strike="noStrike">
                <a:solidFill>
                  <a:srgbClr val="7f7f7f"/>
                </a:solidFill>
                <a:latin typeface="Verdana"/>
                <a:cs typeface="Tahoma"/>
              </a:rPr>
              <a:t>الغرض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فهم بشكل أفضل أنشطة مرفق البيئة العالمي المتعلقة بالرصد والتقييم على المستوى الوطن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just" rtl="1">
              <a:spcBef>
                <a:spcPts val="119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800" spc="-1" strike="noStrike">
                <a:solidFill>
                  <a:srgbClr val="000000"/>
                </a:solidFill>
                <a:latin typeface="Verdana"/>
                <a:cs typeface="Tahoma"/>
              </a:rPr>
              <a:t>بشكل خاص، دور مراكز تنسيق العمليات وغيرها من أصحاب المصلحة على الصعيد الوطني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 rtl="1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200" spc="-1" strike="noStrike">
                <a:solidFill>
                  <a:srgbClr val="000000"/>
                </a:solidFill>
                <a:latin typeface="Verdana"/>
                <a:cs typeface="Tahoma"/>
              </a:rPr>
              <a:t>مناقشة المسائل العملية المتعلقة بتصميم واستخدام نظم الرصد والتقييم في بلدك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spcBef>
                <a:spcPts val="119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01:46:11Z</dcterms:created>
  <dc:creator>Dima</dc:creator>
  <dc:description/>
  <dc:language>en-US</dc:language>
  <cp:lastModifiedBy>Abeer Mohammed Abdul Kad Al Dagestani</cp:lastModifiedBy>
  <dcterms:modified xsi:type="dcterms:W3CDTF">2013-12-11T16:56:24Z</dcterms:modified>
  <cp:revision>139</cp:revision>
  <dc:subject/>
  <dc:title>Презентация PowerPoint</dc:title>
</cp:coreProperties>
</file>