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E844-650F-4A8C-9997-F76C25EDE6D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1AC5-F268-4D7E-BB88-833F824DE7B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D856-CF5E-4B23-8E66-CBAFF3BBEE4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CE79-46C7-4B8F-BFD5-B52FF4BD977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B0F-EEE4-4C5B-830B-56310C69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85EA-BBFD-4FEA-8955-F0141F70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577-56BE-4D3D-B768-F405DFC4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F62-A447-48DD-B345-5378BDC9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B4D2-E942-4EE5-9B05-4D720916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D5E5-CC3C-440E-A372-FA07CF67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6238-E1F4-4D93-AE82-B45BF93F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5D84-C981-402A-BD80-447B455D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387D-A698-4124-A526-CEAC59DD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D9F6-DE34-4590-89AA-6C7B0C87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DE1B-BC4E-4B82-9B06-F35CA453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8C5-EE0B-4A82-A9CB-B3276BD7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F7D3-7F0B-4BA8-9570-7442799A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D1A1-77DD-4F70-9302-03FA6CC8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9BB8-D0F7-480D-A4F7-FD1B80C7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CF18-CB12-4CCC-A1A0-DF051D47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59E4-F073-4CA8-9692-B7736624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4AEAD-A6D7-4F43-9709-030AC577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A4B40-CD8A-4137-9565-68CA72CD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AE3AC-6201-41C2-98A1-0786129A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69D96-DE5F-41AE-A67E-4435E35C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C93BD-3612-4D07-9D2B-637570F0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6C33-3BDF-40FF-90E0-49E678ED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23FFB-8D82-498C-8AA9-C577784A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BC00C-A562-4C95-BD71-C7DC2DE8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744AB-84AC-4DC2-A05F-CAAEAB47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DF0BB-5B96-4563-AEB1-2FF76B02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F1D18-01F0-4F43-BA49-AEC0A8BE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4C3F7-7515-40FD-8CF5-FBF4A57A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0A003-8149-40D1-8B01-E8AE37C8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7D3FD-F98C-4E69-8CAD-5059FFB9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29CA1-B358-4A93-ADC5-D850BBC0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56F37-1BC5-48C5-971A-4750786F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CCB1-2C44-451C-A2CA-00B2D0E2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31A1A-215B-4B65-856E-B79E1845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602A7-4A97-4520-9090-2FFA9BC4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08D55-343D-455D-98AF-6CF19AC4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1C620-BE85-46D3-A773-0E26F50B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7C4D4-30C3-4CA3-ACD5-B667DC87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33DE1-BAA0-4EB3-A13D-C9E613A5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234F0-4EBE-4734-9762-A8E1FE79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7B5D4-D518-4F6D-ADBE-0F30EFFC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9EF8A-6366-4DE0-ADBC-E7F942FA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E08-B317-432F-AA44-2F9C5830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DED-318B-4947-A23B-788B32B3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FEC0-7312-42C9-8855-379E1316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25A-53B6-411D-B5C0-AA06B7E2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BF79-8D37-410C-BA05-49593D2B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A38E-F92E-4468-AC97-577FBF0A9E2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CEC3-B490-4B75-B215-26621CB7C06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B2F8-0D11-4D57-958C-71F7AD18396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838E-95CC-44BA-8668-6502ECB92B0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google.ca/url?sa=i&amp;source=images&amp;cd=&amp;docid=8tTz2gOi3Ezf4M&amp;tbnid=DCzhVKANQnsODM:&amp;ved=0CAgQjRwwAA&amp;url=http%3A%2F%2F3blmedia.com%2FCSR-Profiles%2FUnited-Nations-Convention-Combat-Desertification-UNCCD&amp;ei=cSgMUYjdD4i60QHxg4CYBA&amp;psig=AFQjCNEfR6puls2FKzMG-5yQ9Qg01q750Q&amp;ust=1359837681297646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8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36360" y="1584360"/>
            <a:ext cx="8285400" cy="2421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4941720"/>
            <a:ext cx="7854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pic28945"/>
          <p:cNvPicPr/>
          <p:nvPr/>
        </p:nvPicPr>
        <p:blipFill>
          <a:blip r:embed="rId2"/>
          <a:stretch/>
        </p:blipFill>
        <p:spPr>
          <a:xfrm>
            <a:off x="6443640" y="5877000"/>
            <a:ext cx="2185920" cy="500040"/>
          </a:xfrm>
          <a:prstGeom prst="rect">
            <a:avLst/>
          </a:prstGeom>
          <a:ln w="0">
            <a:noFill/>
          </a:ln>
        </p:spPr>
      </p:pic>
      <p:pic>
        <p:nvPicPr>
          <p:cNvPr id="205" name="irc_mi" descr="UNCCD%20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5519880"/>
            <a:ext cx="1441440" cy="919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195640" y="5950080"/>
            <a:ext cx="2474640" cy="450720"/>
          </a:xfrm>
          <a:prstGeom prst="rect">
            <a:avLst/>
          </a:prstGeom>
          <a:ln w="0">
            <a:noFill/>
          </a:ln>
        </p:spPr>
      </p:pic>
      <p:pic>
        <p:nvPicPr>
          <p:cNvPr id="207" name="rg_hi" descr="ANd9GcSNhrX5XdgdIi6Y4kPBvyj9dj047zivDNJlLI0ec-c1hvYXoot4gw"/>
          <p:cNvPicPr/>
          <p:nvPr/>
        </p:nvPicPr>
        <p:blipFill>
          <a:blip r:embed="rId6"/>
          <a:stretch/>
        </p:blipFill>
        <p:spPr>
          <a:xfrm>
            <a:off x="611280" y="5877000"/>
            <a:ext cx="152064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39640" y="6237360"/>
            <a:ext cx="19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صدر: مصادر متنوع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11280" y="765000"/>
            <a:ext cx="7489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ثال الثاني: أراضي الخث (قضايا عالمية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%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 سطح الأرض – 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لايين كيلومتر مربع (تكسوها طبقة من الخث (الفحم العضوي) بارتفاع 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نتيمتراً)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10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لايين كيلومتر مربع (تكسوها طبقة يقل ارتفاعها عن 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نتيمتراً)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 مصادر المياه العذبة بالعال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611280" y="1773360"/>
            <a:ext cx="71294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أراضي الخث/الأراضي الرطبة الصحية توفر منافع لا تُعد ولا تُحص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تصاص المغذيات الدقيقة والمواد السامة وتخزين الكربو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خفيف الفيضانات، والحد من التآكل، وحبس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سيبات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ياه،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رد القابلة للحصاد، وزراعة الأغذية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كيف مع تغير المناخ – عازل في وجه الكوارث الطبيع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7632720" cy="31669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"/>
          <p:cNvSpPr/>
          <p:nvPr/>
        </p:nvSpPr>
        <p:spPr>
          <a:xfrm>
            <a:off x="468360" y="26028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ar-EG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حديد المناطق والمشروعات المتكاملة (يُتب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هود تعزيز التنسيق </a:t>
            </a:r>
            <a:r>
              <a:rPr b="1" lang="ar-SA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تضافر الجهود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964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توقع اتفاقيات ريو دي جانيرو الثلاث وتشجع على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ضافر الجهود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فيما بينها من أجل التناغم في تنفيذها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شكيل مجموعة اتصال مشتركة بين اتفاقية الأمم المتحدة الإطاربة لمكافحة تغير المناخ، والاتفاقية المعنية بالتنوع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، واتفاقية مكافحة التصحر، منذ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شكيل مجموعة من الخبراء الفنيين في مجالي تغير المناخ والتنوع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.. منذ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جهود التي يبذلها مرفق البيئة العالمي أثناء نهوضه بالتفويض الموكل إليه وإرشادات مؤتمر الأطراف: </a:t>
            </a:r>
            <a:r>
              <a:rPr b="0" i="1" lang="ar-E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مشروعات متعددة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--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كثير من ورش العمل، وقرارات مؤتمر الأطراف، ومجموعات الخبراء الفنيين، والعروض التقديمية، 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Times New Roman"/>
                <a:cs typeface="Times New Roman"/>
              </a:rPr>
              <a:t>لكن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النتائج تظل قليلة جداً على أرض الواق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لسة التمرين على </a:t>
            </a:r>
            <a:r>
              <a:rPr b="1" lang="ar-SA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ضافر الجهود </a:t>
            </a: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ين الاتفاقيات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دعوة أصحاب المصلحة إلى عرض الحقائق على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أرض الواقع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كيف يجري تنفيذ الاتفاقيات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ا هي الأعمال التي يتم القيام بها للتشجيع على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ضافر الجهود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سواء على المستوى المؤسسي (بين الوزارات الضالعة في تنفيذ الاتفاقيات) ومستوى العمليات (المشروعات والبرامج الملموسة)؛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ا هي المعوقات التي تحول دون تحقق مثل هذا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ضافر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فعال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ا هي أفضل الممارسات التي يمكن تحديدها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حلقات ال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عمل الموسعة ل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لبلدان الأعضاء في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مرفق البيئة العالمي تتيح فرصة فريدة لمناقشة أوجه التوافق فيما بين اتفاقيات ريو دي جانيرو عند انعقادها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راكز تنسيق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تفاقيات ريو دي جانيرو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راكز تنسيق 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عمليات لدي مرفق البيئة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مثلو المجتمع المدن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-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فرصة هائلة لمناقشة القضايا المتداخلة بالنسبة لكافة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اتفاقي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دف جلسة التمرين على </a:t>
            </a:r>
            <a:r>
              <a:rPr b="1" lang="ar-SA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ضافر الجهود </a:t>
            </a: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نتيجتها المتوقعة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هدف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خروج بتوصيات ملموسة من جانب الأطراف الرئيسية الفاعلة في عملية تنفيذ اتفاقيات ريو دي جانيرو والمشاركة في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حلقة ال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عمل الموسعة هذه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للبلدان الأعضاء في مرفق البيئة العالمي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بشأن كيفية التوفيق بشكل ملموس بين الاتفاقيات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نتيجة المتوقعة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وصيات التي سيرفعها ممثلو البلدان إلى وزاراتهم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سجيل التوصيات في محضر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حلقة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عمل لاستخدامها في غيرها من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حلقات ال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عمل الموسعة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تقوم السكرتارية بتجميع كافة ما خرجت به جميع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لقات ال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عمل الموسعة من توصيات بشأن كيفية تحقيق التوافق وجعلها متاحة لكافة أصحاب المصلح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يفية انعقاد جلسة التمرين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3964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جزء الأول: مجموعات العمل، حيث يتم تقسيم المشاركين حسب البلدان، وتحديد أوجه التشابه، والازدواجية، وفرص التماثل في خطة التكيف الوطنية،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خطة عمل التكيف الوطنية، وخطة العمل والاستراتيجية الوطنية للتنوع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قدم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راكز التنسيق والاتصال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ختلفة الأولويات الخاصة لخططها واستراتيجياتها وكيف تتوقع تنفيذ العمليات المنشودة وتمويلها (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دقائق لكل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جهة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جراء نقاش لتحديد أهم وأبرز أوجه التشابه، والازدواجية، وتداخل الأنشطة، وما يمكن تنفيذه بشكل مشترك، وما هي العراقيل التي تواجه مثل هذا التنفيذ المشترك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خيص النقاش وتحديد خلاصته كتابة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جزء الثاني: تلخيص القضايا وت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قسيمها في مجموع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جزء الثالث: العرض التقديمي والموافقة على التوصي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ct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يتبع ذلك التمرين العملي على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ضافر الجهود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1" descr=""/>
          <p:cNvPicPr/>
          <p:nvPr/>
        </p:nvPicPr>
        <p:blipFill>
          <a:blip r:embed="rId1"/>
          <a:stretch/>
        </p:blipFill>
        <p:spPr>
          <a:xfrm>
            <a:off x="901800" y="3651120"/>
            <a:ext cx="7559640" cy="1036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4920" y="2421000"/>
            <a:ext cx="7991640" cy="151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شكراً لكم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3" descr="present"/>
          <p:cNvPicPr/>
          <p:nvPr/>
        </p:nvPicPr>
        <p:blipFill>
          <a:blip r:embed="rId2"/>
          <a:stretch/>
        </p:blipFill>
        <p:spPr>
          <a:xfrm>
            <a:off x="755640" y="981000"/>
            <a:ext cx="1944720" cy="1943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5" name="Picture 1" descr="future"/>
          <p:cNvPicPr/>
          <p:nvPr/>
        </p:nvPicPr>
        <p:blipFill>
          <a:blip r:embed="rId3"/>
          <a:stretch/>
        </p:blipFill>
        <p:spPr>
          <a:xfrm>
            <a:off x="6875640" y="836640"/>
            <a:ext cx="2016000" cy="1955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6" name="Rectangle 5"/>
          <p:cNvSpPr/>
          <p:nvPr/>
        </p:nvSpPr>
        <p:spPr>
          <a:xfrm>
            <a:off x="611280" y="6021360"/>
            <a:ext cx="21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icture credit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Dubrovsky,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rg_hi" descr="ANd9GcSNhrX5XdgdIi6Y4kPBvyj9dj047zivDNJlLI0ec-c1hvYXoot4gw"/>
          <p:cNvPicPr/>
          <p:nvPr/>
        </p:nvPicPr>
        <p:blipFill>
          <a:blip r:embed="rId4"/>
          <a:stretch/>
        </p:blipFill>
        <p:spPr>
          <a:xfrm>
            <a:off x="611280" y="5300640"/>
            <a:ext cx="1520640" cy="614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268360" y="5373720"/>
            <a:ext cx="2473560" cy="450720"/>
          </a:xfrm>
          <a:prstGeom prst="rect">
            <a:avLst/>
          </a:prstGeom>
          <a:ln w="0">
            <a:noFill/>
          </a:ln>
        </p:spPr>
      </p:pic>
      <p:pic>
        <p:nvPicPr>
          <p:cNvPr id="279" name="irc_mi" descr="UNCCD%20logo"/>
          <p:cNvPicPr/>
          <p:nvPr/>
        </p:nvPicPr>
        <p:blipFill>
          <a:blip r:embed="rId6"/>
          <a:stretch/>
        </p:blipFill>
        <p:spPr>
          <a:xfrm>
            <a:off x="4859280" y="5084640"/>
            <a:ext cx="1441440" cy="919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pic28945"/>
          <p:cNvPicPr/>
          <p:nvPr/>
        </p:nvPicPr>
        <p:blipFill>
          <a:blip r:embed="rId7"/>
          <a:stretch/>
        </p:blipFill>
        <p:spPr>
          <a:xfrm>
            <a:off x="6443640" y="5373720"/>
            <a:ext cx="21859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ar-EG" sz="20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بسيط للحلقة المفرغة للآثار المتشعبة لتغير المناخ، والتصحر، وفقدان التنوع </a:t>
            </a:r>
            <a:r>
              <a:rPr b="1" lang="ar-SA" sz="20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بيولوجي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45440" cy="30956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210" name="Rectangle 7"/>
          <p:cNvSpPr/>
          <p:nvPr/>
        </p:nvSpPr>
        <p:spPr>
          <a:xfrm>
            <a:off x="755640" y="4365720"/>
            <a:ext cx="806436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ar-EG" sz="1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غير المناخ، وتدهور التربة والتصحر (بما في ذلك مشكلات كمية المياه ونوعيتها) وفقدان التنوع </a:t>
            </a:r>
            <a:r>
              <a:rPr b="1" lang="ar-SA" sz="1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وجه الترابط المعقدة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كبر التحديات للتنمية المستدامة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هديد كبير للحياة على الأر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0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ؤثر في بعضها البعض بشكل مباشر أو غير مباشر، ومن خلال التفاعلات فيما بين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أوجه الارتباط الهامة بين فقدان التنوع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، وتغير المناخ، وتدهور التربة والتصح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28280"/>
            <a:ext cx="822960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استخدام غير المستدام للموارد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ثاره على التنوع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وتغير المناخ، وتدهور الترب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غير المناخ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اقم الأوضاع الحالية لتدهور التربة والتصحر، وفقدان التنوع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ــ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ؤدي إلى زيادة التعرض للخطر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دورتان الكربونية والمائية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ا عمليتان هائلتان لهما أهمية بالغة بالنسبة للحياة على الأرض؛</a:t>
            </a: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مدان على التنوع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ولوجي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تنوع </a:t>
            </a:r>
            <a:r>
              <a:rPr b="1" lang="ar-SA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 </a:t>
            </a: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باستطاعته المساعدة في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7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زيز المرونة في وجه آثار تغير المناخ؛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7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افحة تدهور التربة والتصحر؛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7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خفيف من حدة الفقر الذي ترتبط به بشدة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0" lang="ar-E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فرصة هائلة لتطبيق الاستراتيجيات والإجراءات الاستباقية،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تسقة،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الشاملة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، والمتكاملة: مشروعات مشتركة على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رض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الواقع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وفي المنتديات السياسية.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لأنشطة المنفردة/المنعزلة وإجراءات الاستجابة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539640" y="3716280"/>
            <a:ext cx="820908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ضع الكثير من المعاهدات البيئية العالمية والأهداف بطريقة تتسم بالتفتت والتشرذ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نعزالية الأنشطة والاستجابات مالم تكن هناك ضرورة، وهو ما يؤدي إلى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لة فعالية التكلفة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لقاء أعباء على عاتق الأطراف المعنية فيما يتعلق بالوفاء بالالتزامات والإبلاغ؛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مكانية حدوث آثار سلبية غير مباشرة دون عمد وتدخل عوامل خارجية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أخذ تغير أعداد السكان وعوامله في الحسبان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عف المساهمة/التأثير في تحقيق الصالح العام والخدمات البيئية العالمية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0" lang="ar-EG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ضرورة النهوض بمشروعات متوافقة ومتكاملة ما أمك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480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لرؤية الخاصة بالمشروعات المتسقة،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الشاملة</a:t>
            </a: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، والمتكاملة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رؤية: التعزيز الفعال للمنافع المتعددة من خلال الاتساق في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بط بين الأنشطة والجهود الخاصة بالاتفاقيات؛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لوغ الأهداف العامة للاتفاقيات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دون إضاعة للموارد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بطريقة تحقق منافع قيمة مضافة متسقة على المستويات المحلية، والوطنية، والعالمية؛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من خلال الترتيبات المؤسسية المناسبة وبروتوكولات الاتصالات المتعلقة ببرنامج التكيف الوطني، وبرنامج عمل التكيف الوطني، واستراتيجية وخطة العمل الوطنية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سر الحلقة المفرغة من الآثار المتداخلة وتحقيق الأهداف والخطط الاستراتيجية، و</a:t>
            </a:r>
            <a:r>
              <a:rPr b="1" lang="ar-SA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وفاء بالمتطلبات الوارد بشأنها تكليفات</a:t>
            </a:r>
            <a:r>
              <a:rPr b="1" lang="ar-EG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درك الأمم المتحدة جيداً ما يلي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عتماد الاتفاقيات على بعضها البعض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ضرورة التوفيق الشديد بين جهودها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لطبيعة التكاملية لأنشطتها التي تؤكد على الحاجة إلى اتباع نهج </a:t>
            </a:r>
            <a:r>
              <a:rPr b="1" i="1" lang="ar-SA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شامل</a:t>
            </a: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، متناسق، ومتكامل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EG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مبررات المشروعات المتكاملة والتحديات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9280" y="1197000"/>
            <a:ext cx="820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lang="ar-SA" sz="17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مبررات الداعية لتضافر الجهود </a:t>
            </a:r>
            <a:r>
              <a:rPr b="0" lang="ar-EG" sz="17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المشروعات المتكاملة: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عروفة جيداً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إدارة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نسقة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اركة 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أدوات (كمؤشرات الإدارة والتقييم،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متابعة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وفي المعلومات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د من ازدواجية الجهود والآثار السلبية غير المقصودة؛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عالية التكلفة وتقاسم التكلفة والمخاطر؛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اركة المجتمعات المحلية والسكان الأصليين دون تحميلها أعباء لا داعي لها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عالية تقديم المساندة، وبناء القدرات، وأنشطة التمكين؛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قيق منافع متعددة على المستويات المحلية، والوطنية، والعالمية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تحديات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تصميم وتنفيذ مشروعات/أنشطة متكامل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رساء المبادئ المنصوص عليها في اتفاقية ريو + 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قيق الأهداف الاستراتيجية للاتفاقيات، والنتائج المستهدفة والخطط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افق مع الأهداف الاستراتيجية لمرفق البيئة وإرشاداته لمؤتمر الأطراف...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ربطها بأنشطة الأطراف المحلية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أخذ أفضل الممارسات والمعرفة التقليدية ذات التركيز على المساواة بين الجنسين في الحسبان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إشراك أصحاب المصلحة المعنيين دون تحميلهم أعباء لا داعي لها أو إرهاقهم، 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إرساء الترتيبات المؤسسية...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</a:t>
            </a:r>
            <a:r>
              <a:rPr b="0" lang="en-C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نافع لا تُعد ولا تُحصى ولكن لا يوجد سوى القليل من الإرشادات الواضحة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Oval 19"/>
          <p:cNvGrpSpPr/>
          <p:nvPr/>
        </p:nvGrpSpPr>
        <p:grpSpPr>
          <a:xfrm>
            <a:off x="4614840" y="755640"/>
            <a:ext cx="3340080" cy="3335400"/>
            <a:chOff x="4614840" y="755640"/>
            <a:chExt cx="3340080" cy="3335400"/>
          </a:xfrm>
        </p:grpSpPr>
        <p:pic>
          <p:nvPicPr>
            <p:cNvPr id="221" name="Oval 19" descr=""/>
            <p:cNvPicPr/>
            <p:nvPr/>
          </p:nvPicPr>
          <p:blipFill>
            <a:blip r:embed="rId1"/>
            <a:stretch/>
          </p:blipFill>
          <p:spPr>
            <a:xfrm>
              <a:off x="4614840" y="755640"/>
              <a:ext cx="3340080" cy="33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rot="13501800">
              <a:off x="5353560" y="1116720"/>
              <a:ext cx="1854000" cy="25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7"/>
          <p:cNvSpPr/>
          <p:nvPr/>
        </p:nvSpPr>
        <p:spPr>
          <a:xfrm>
            <a:off x="755640" y="260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مشروعات </a:t>
            </a:r>
            <a:r>
              <a:rPr b="1" lang="ar-SA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منسقة</a:t>
            </a:r>
            <a:r>
              <a:rPr b="1" lang="ar-EG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، </a:t>
            </a:r>
            <a:r>
              <a:rPr b="1" lang="ar-SA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الشاملة</a:t>
            </a:r>
            <a:r>
              <a:rPr b="1" lang="ar-EG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، والمتكام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Oval 4"/>
          <p:cNvGrpSpPr/>
          <p:nvPr/>
        </p:nvGrpSpPr>
        <p:grpSpPr>
          <a:xfrm>
            <a:off x="4041720" y="1427040"/>
            <a:ext cx="2835360" cy="3151440"/>
            <a:chOff x="4041720" y="1427040"/>
            <a:chExt cx="2835360" cy="3151440"/>
          </a:xfrm>
        </p:grpSpPr>
        <p:pic>
          <p:nvPicPr>
            <p:cNvPr id="225" name="Oval 4" descr=""/>
            <p:cNvPicPr/>
            <p:nvPr/>
          </p:nvPicPr>
          <p:blipFill>
            <a:blip r:embed="rId2"/>
            <a:stretch/>
          </p:blipFill>
          <p:spPr>
            <a:xfrm>
              <a:off x="4041720" y="1427040"/>
              <a:ext cx="2835360" cy="31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5400000">
              <a:off x="4412520" y="2029680"/>
              <a:ext cx="2087280" cy="18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Oval 9"/>
          <p:cNvGrpSpPr/>
          <p:nvPr/>
        </p:nvGrpSpPr>
        <p:grpSpPr>
          <a:xfrm>
            <a:off x="4614840" y="1182600"/>
            <a:ext cx="3340080" cy="2809800"/>
            <a:chOff x="4614840" y="1182600"/>
            <a:chExt cx="3340080" cy="2809800"/>
          </a:xfrm>
        </p:grpSpPr>
        <p:pic>
          <p:nvPicPr>
            <p:cNvPr id="228" name="Oval 9" descr=""/>
            <p:cNvPicPr/>
            <p:nvPr/>
          </p:nvPicPr>
          <p:blipFill>
            <a:blip r:embed="rId3"/>
            <a:stretch/>
          </p:blipFill>
          <p:spPr>
            <a:xfrm>
              <a:off x="4614840" y="1182600"/>
              <a:ext cx="33400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 rot="1132200">
              <a:off x="5149440" y="1655640"/>
              <a:ext cx="22701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Oval 10"/>
          <p:cNvGrpSpPr/>
          <p:nvPr/>
        </p:nvGrpSpPr>
        <p:grpSpPr>
          <a:xfrm>
            <a:off x="3200400" y="762120"/>
            <a:ext cx="3303720" cy="2987640"/>
            <a:chOff x="3200400" y="762120"/>
            <a:chExt cx="3303720" cy="2987640"/>
          </a:xfrm>
        </p:grpSpPr>
        <p:pic>
          <p:nvPicPr>
            <p:cNvPr id="231" name="Oval 10" descr=""/>
            <p:cNvPicPr/>
            <p:nvPr/>
          </p:nvPicPr>
          <p:blipFill>
            <a:blip r:embed="rId4"/>
            <a:stretch/>
          </p:blipFill>
          <p:spPr>
            <a:xfrm>
              <a:off x="3200400" y="762120"/>
              <a:ext cx="330372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 rot="20457000">
              <a:off x="3738240" y="1244160"/>
              <a:ext cx="222408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8"/>
          <p:cNvGrpSpPr/>
          <p:nvPr/>
        </p:nvGrpSpPr>
        <p:grpSpPr>
          <a:xfrm>
            <a:off x="250920" y="1844640"/>
            <a:ext cx="2520720" cy="1404360"/>
            <a:chOff x="250920" y="1844640"/>
            <a:chExt cx="2520720" cy="1404360"/>
          </a:xfrm>
        </p:grpSpPr>
        <p:grpSp>
          <p:nvGrpSpPr>
            <p:cNvPr id="234" name="Rektangel 128"/>
            <p:cNvGrpSpPr/>
            <p:nvPr/>
          </p:nvGrpSpPr>
          <p:grpSpPr>
            <a:xfrm>
              <a:off x="250920" y="1844640"/>
              <a:ext cx="2520720" cy="819720"/>
              <a:chOff x="250920" y="1844640"/>
              <a:chExt cx="2520720" cy="819720"/>
            </a:xfrm>
          </p:grpSpPr>
          <p:pic>
            <p:nvPicPr>
              <p:cNvPr id="235" name="Rektangel 128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1844640"/>
                <a:ext cx="2520720" cy="81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287280" y="1877400"/>
                <a:ext cx="2395440" cy="69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Rektangel 63"/>
            <p:cNvSpPr/>
            <p:nvPr/>
          </p:nvSpPr>
          <p:spPr>
            <a:xfrm>
              <a:off x="355320" y="1877400"/>
              <a:ext cx="23907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2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مشروعات الاتفاقية الإطارية بشأن تغير المناخ: الأهداف الاستراتيجية المتعلقة بتغير المناخ، وخطط التكيف الوطنية ، وخطط عمل التكيف الوطنية، وأعمال التخفيف الملائمة وطنيا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8"/>
          <p:cNvGrpSpPr/>
          <p:nvPr/>
        </p:nvGrpSpPr>
        <p:grpSpPr>
          <a:xfrm>
            <a:off x="250920" y="2781360"/>
            <a:ext cx="2523960" cy="1189080"/>
            <a:chOff x="250920" y="2781360"/>
            <a:chExt cx="2523960" cy="1189080"/>
          </a:xfrm>
        </p:grpSpPr>
        <p:grpSp>
          <p:nvGrpSpPr>
            <p:cNvPr id="239" name="Rektangel 128"/>
            <p:cNvGrpSpPr/>
            <p:nvPr/>
          </p:nvGrpSpPr>
          <p:grpSpPr>
            <a:xfrm>
              <a:off x="250920" y="2785680"/>
              <a:ext cx="2523960" cy="804600"/>
              <a:chOff x="250920" y="2785680"/>
              <a:chExt cx="2523960" cy="804600"/>
            </a:xfrm>
          </p:grpSpPr>
          <p:pic>
            <p:nvPicPr>
              <p:cNvPr id="240" name="Rektangel 128" descr=""/>
              <p:cNvPicPr/>
              <p:nvPr/>
            </p:nvPicPr>
            <p:blipFill>
              <a:blip r:embed="rId6"/>
              <a:stretch/>
            </p:blipFill>
            <p:spPr>
              <a:xfrm>
                <a:off x="250920" y="2785680"/>
                <a:ext cx="2523960" cy="8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286560" y="2820240"/>
                <a:ext cx="239904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Rektangel 63"/>
            <p:cNvSpPr/>
            <p:nvPr/>
          </p:nvSpPr>
          <p:spPr>
            <a:xfrm>
              <a:off x="386280" y="2781360"/>
              <a:ext cx="23029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2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مشروعات الاتفاقية المعنية بالتنوع البيولوجي: أهداف آيتشي والخطة الاستراتيجية للتنوع البيولوجي، وتبادل المعلومات والمنافع، والسلامة الحيو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8"/>
          <p:cNvGrpSpPr/>
          <p:nvPr/>
        </p:nvGrpSpPr>
        <p:grpSpPr>
          <a:xfrm>
            <a:off x="324000" y="3645000"/>
            <a:ext cx="2519280" cy="1040760"/>
            <a:chOff x="324000" y="3645000"/>
            <a:chExt cx="2519280" cy="1040760"/>
          </a:xfrm>
        </p:grpSpPr>
        <p:grpSp>
          <p:nvGrpSpPr>
            <p:cNvPr id="244" name="Rektangel 128"/>
            <p:cNvGrpSpPr/>
            <p:nvPr/>
          </p:nvGrpSpPr>
          <p:grpSpPr>
            <a:xfrm>
              <a:off x="324000" y="3645000"/>
              <a:ext cx="2519280" cy="809640"/>
              <a:chOff x="324000" y="3645000"/>
              <a:chExt cx="2519280" cy="809640"/>
            </a:xfrm>
          </p:grpSpPr>
          <p:pic>
            <p:nvPicPr>
              <p:cNvPr id="245" name="Rektangel 128" descr=""/>
              <p:cNvPicPr/>
              <p:nvPr/>
            </p:nvPicPr>
            <p:blipFill>
              <a:blip r:embed="rId7"/>
              <a:stretch/>
            </p:blipFill>
            <p:spPr>
              <a:xfrm>
                <a:off x="324000" y="3645000"/>
                <a:ext cx="2519280" cy="80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360360" y="3676680"/>
                <a:ext cx="2395440" cy="69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Rektangel 63"/>
            <p:cNvSpPr/>
            <p:nvPr/>
          </p:nvSpPr>
          <p:spPr>
            <a:xfrm>
              <a:off x="430200" y="3739320"/>
              <a:ext cx="2391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المشروعات الأخرى للاتفاقيات البيئية متعددة الأطراف والوطنية: أهداف استراتيجة متنوع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8"/>
          <p:cNvGrpSpPr/>
          <p:nvPr/>
        </p:nvGrpSpPr>
        <p:grpSpPr>
          <a:xfrm>
            <a:off x="250920" y="880920"/>
            <a:ext cx="2523960" cy="1429920"/>
            <a:chOff x="250920" y="880920"/>
            <a:chExt cx="2523960" cy="1429920"/>
          </a:xfrm>
        </p:grpSpPr>
        <p:grpSp>
          <p:nvGrpSpPr>
            <p:cNvPr id="249" name="Rektangel 128"/>
            <p:cNvGrpSpPr/>
            <p:nvPr/>
          </p:nvGrpSpPr>
          <p:grpSpPr>
            <a:xfrm>
              <a:off x="250920" y="880920"/>
              <a:ext cx="2523960" cy="798120"/>
              <a:chOff x="250920" y="880920"/>
              <a:chExt cx="2523960" cy="798120"/>
            </a:xfrm>
          </p:grpSpPr>
          <p:pic>
            <p:nvPicPr>
              <p:cNvPr id="250" name="Rektangel 128" descr=""/>
              <p:cNvPicPr/>
              <p:nvPr/>
            </p:nvPicPr>
            <p:blipFill>
              <a:blip r:embed="rId8"/>
              <a:stretch/>
            </p:blipFill>
            <p:spPr>
              <a:xfrm>
                <a:off x="250920" y="880920"/>
                <a:ext cx="2523960" cy="79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86560" y="913320"/>
                <a:ext cx="2401920" cy="67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Rektangel 63"/>
            <p:cNvSpPr/>
            <p:nvPr/>
          </p:nvSpPr>
          <p:spPr>
            <a:xfrm>
              <a:off x="354600" y="939240"/>
              <a:ext cx="2340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2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مشروعات اتفاقية مكافحة التصحر: الأهداف والخطة الاستراتيجية لمكافحة تدهور التربة والتصحر، </a:t>
              </a:r>
              <a:r>
                <a:rPr b="1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2008</a:t>
              </a:r>
              <a:r>
                <a:rPr b="1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-</a:t>
              </a:r>
              <a:r>
                <a:rPr b="1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2018</a:t>
              </a:r>
              <a:r>
                <a:rPr b="1" sz="12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؛ الخطة التي تمت الموافقة عليها في مؤتمر ريو دي جانيرو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22"/>
          <p:cNvSpPr/>
          <p:nvPr/>
        </p:nvSpPr>
        <p:spPr>
          <a:xfrm>
            <a:off x="684360" y="4508640"/>
            <a:ext cx="720072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 </a:t>
            </a:r>
            <a:r>
              <a:rPr b="1" lang="ar-EG" sz="1800" spc="-1" strike="noStrike">
                <a:solidFill>
                  <a:srgbClr val="0070c0"/>
                </a:solidFill>
                <a:latin typeface="Constantia"/>
                <a:cs typeface="ＭＳ Ｐゴシック"/>
              </a:rPr>
              <a:t>المشروع التوافقي المتكامل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اعد في تحقيق أهداف الاتفاقيات المختارة بشكل متزامن (</a:t>
            </a:r>
            <a:r>
              <a:rPr b="1" lang="ar-EG" sz="16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فيما بين الأقسام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ar-EG" sz="15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صبح أوجه الترابط بين الاتفاقيات ملموسة أينما كانت للحاجة إلى تعزيز التعاون أهمية بالغة لتعظيم إمكانيات تنفيذ الاتفاقيات؛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ar-EG" sz="1600" spc="-1" strike="noStrike">
                <a:solidFill>
                  <a:srgbClr val="0070c0"/>
                </a:solidFill>
                <a:latin typeface="Times New Roman"/>
              </a:rPr>
              <a:t>المشروعات المنفردة/المنعزلة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</a:rPr>
              <a:t>تتطلب </a:t>
            </a:r>
            <a:r>
              <a:rPr b="1" lang="ar-EG" sz="1600" spc="-1" strike="noStrike">
                <a:solidFill>
                  <a:srgbClr val="ff0000"/>
                </a:solidFill>
                <a:latin typeface="Times New Roman"/>
              </a:rPr>
              <a:t>إجراءات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</a:rPr>
              <a:t>لتفادي الآثار السلبية غير المقصودة على أهداف بعضها البعض الآخر وتسهل المنفعة المشترك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حديد المناطق والمشروعات المتكاملة</a:t>
            </a:r>
            <a:br>
              <a:rPr sz="2400"/>
            </a:b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لشروع في التنفي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ختيار المشروعات المتكامل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أين تشتد أهمية معالجة آثار تغير المناخ، أو تدهور التربة، أو فقدان التنوع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؟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 </a:t>
            </a:r>
            <a:r>
              <a:rPr b="0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أولوية للمناطق شديدة التعرض للخطر وذات الأهمية البالغة للتكامل البيئي بالنسبة لتحقيق صالح النظام البيئي وخدماته؛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</a:t>
            </a:r>
            <a:r>
              <a:rPr b="0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شروعات التي تنطوي على إمكانيات كبرى لتحقيق منافع متعددة ومشتركة وتخفيف حدة الفقر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إمكانية الاستجابة البشرية والمشاركة... </a:t>
            </a: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المساواة بين الجنسين، والمعرفة التقليدية، وأفضل الممارسات..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حديد الأهداف والمنافع المحتملة والنتائج المتوقعة </a:t>
            </a: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النتائج على الأمد القصير، والمتوسط، والطويل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سد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فجوات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انات/المعرفة القائمة </a:t>
            </a: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من أجل تحديد خط الأساس، والمؤشرات، وأدوات الإدارة والتقييم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قدير المتطلبات من الموارد: الجدوى،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تكلفة، ومصدر التمويل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توافر محاسبة الموارد بالنسبة لكافة المصادر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مصادر التمويل (مثل مرفق البيئة والتمويل المشترك) وإمكانية إنشاء الشراكات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مصادر التمويل المحلية؟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برز أوضاع المخاطر: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فتقار إلى كفاءة الإدارة واستعراضات دورة حياة المشروعات، وإلى وضوح الأهداف، وأدوات الإدارة والتقييم، ومؤشرات النتائج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م المعايير:  </a:t>
            </a:r>
            <a:r>
              <a:rPr b="0" i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خذ حقوق رأس المال في الاعتبار؛ والتوافق المؤسسي مع مزيج السياسات؛ وفعالية التكلفة، والفعالية البيئية طويلة الأمد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حديد المناطق والمشروعات المتكاملة (يُتبع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83664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ثال الأول: الأراضي الجافة (قضايا عالمية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1.3%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 المساحة البرية لسطح الأرض؛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 بين 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5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طقة شديدة الأهمية عالمياً؛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6%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 سكان العالم (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1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ليار شخص)</a:t>
            </a: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بالبلدان النامية، و 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بالمناطق العشبية والمراعي، و 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دون خط الفقر)؛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4%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 أنظمة المحاصيل بالعال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Content Placeholder 3" descr=""/>
          <p:cNvPicPr/>
          <p:nvPr/>
        </p:nvPicPr>
        <p:blipFill>
          <a:blip r:embed="rId1"/>
          <a:stretch/>
        </p:blipFill>
        <p:spPr>
          <a:xfrm>
            <a:off x="542880" y="2481120"/>
            <a:ext cx="827712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19:57:25Z</dcterms:created>
  <dc:creator>Edji-CAD</dc:creator>
  <dc:description/>
  <dc:language>en-US</dc:language>
  <cp:lastModifiedBy>Abeer Mohammed Abdul Kad Al Dagestani</cp:lastModifiedBy>
  <dcterms:modified xsi:type="dcterms:W3CDTF">2013-12-09T21:49:15Z</dcterms:modified>
  <cp:revision>667</cp:revision>
  <dc:subject/>
  <dc:title>GEF Expanded Constituency Workshop (ECW) Honduras – February 19-21, 2013</dc:title>
</cp:coreProperties>
</file>