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E60-9FC7-463E-A2EA-1FD8189EBE9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A1DE-3411-4087-92A2-726F68871E0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4123-562E-49D3-9A7E-2254A249F4D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9677-0A76-49CE-8B33-F7363294FEF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E00-3105-4049-8D43-654FB9A1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A69-A925-453B-AD44-E307A25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82A-A14D-400F-B061-5A3198BD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872-FB81-43B0-8BFF-B9497056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48C0-6CC8-43BC-B1EE-AF3E7A3E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FF1E-EDFF-41EE-A690-92F3E65E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8708-8B0C-4187-A914-80621DE4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09E4-CA9C-42A7-9F07-78FA8D39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247A-2AD2-4B0F-AC25-FF4A2BA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5389-7916-42B0-B263-4603F56D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244C-F570-4A71-B82D-537DC21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C74-B073-4D47-9332-232B5B74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8C13-D8F3-4892-B71A-3AF8272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9B73-DD8D-4464-839C-6F843B26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278A-CA85-4A5C-8C44-3F05B21C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441-F442-4F23-9A65-68D2C20F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ED64-F921-467C-A407-976EE242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7B50-A17A-4EA8-8E13-37C07D7E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0634E-BBC6-4926-A44C-E688CC76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33F5-06A2-447A-B338-CD9F5F95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53056-9458-4969-805E-2BC37B53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386E-0E1F-497A-B944-4ACC917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45B-C2F8-4C5E-AAE0-EEAFEF97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1AF1-F4DA-47AB-B869-9534BC76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B6F4-ED47-47B3-8EF6-13EB4521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3E59-F525-43B6-85F3-A5AE6C94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6E17D-6674-4F64-B7A3-25E0147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E797-6938-4CA2-AEA4-6D28B408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B6AB-86F3-4749-A71E-4A8E70F2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1D7F4-B219-44FB-94CC-1EA9D3E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117D-6397-42D8-9C75-2AEB9B2D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5A32-1C78-47F4-9C94-3F806F4A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85AB-8A37-448D-9129-0E3F531C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A1F-5CFF-454D-9EB4-3C9A81CA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0A2C-62AB-4DA5-941D-E021552F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D6C83-B583-4C78-A8B2-09BD3F01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5796-4284-4236-9F76-3EA562DF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E250F-D0BD-454B-B813-00678EFF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B2BD9-BB76-4FA9-97B8-79956E8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FB3F7-B1CA-4538-AE98-745B26A8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DCD87-BE4A-46C2-A80F-0BD760B0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5E38-6206-4B29-AACC-A5ADD28A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5FCC-AC56-4228-B1FE-E44A1B81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D0E-A2A1-4607-96DB-308B56D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5C1-DA4E-4DD5-B372-335CF138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A4D-7623-47E3-A7A8-6E3EB70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474-5319-428D-91BA-1CD2D65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3E5-D23F-4AB3-AD1B-609E75A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E9B0-B7CE-4E2E-810C-2D87A78C36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6A4D-323E-4C39-A6BB-E639255F679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433-68FD-47D8-9584-9B8734E46D7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6FB-39B3-4F2D-AD66-EDFDCA901B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6360" y="1584360"/>
            <a:ext cx="8285400" cy="2421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/>
          <p:cNvPicPr/>
          <p:nvPr/>
        </p:nvPicPr>
        <p:blipFill>
          <a:blip r:embed="rId6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در: مصادر متنو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ثاني: أراضي الخث (قضايا عالمية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سطح الأرض –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من الخث (الفحم العضوي) بارتفاع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لايين كيلومتر مربع (تكسوها طبقة يقل ارتفاعها عن 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سنتيمتراً)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مصادر المياه العذبة بالعال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اضي الخث/الأراضي الرطبة الصحية توفر منافع لا تُعد ولا تُحص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متصاص المغذيات الدقيقة والمواد السامة وتخزين الكرب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فيف الفيضانات، والحد من التآكل، وحبس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سيبات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ياه،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</a:t>
            </a: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رد القابلة للحصاد، وزراعة الأغذية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كيف مع تغير المناخ – عازل في وجه الكوارث الطبيع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ar-EG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هود تعزيز التنسيق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تضافر الجهود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توقع اتفاقيات ريو دي جانيرو الثلاث وتشجع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يما بينها من أجل التناغم في تنفيذها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اتصال مشتركة بين اتفاقية الأمم المتحدة الإطاربة لمكافحة تغير المناخ، والاتفاقية المعنية ب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تفاقية مكافحة التصحر،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شكيل مجموعة من الخبراء الفنيين في مجالي تغير المناخ و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.. منذ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هود التي يبذلها مرفق البيئة العالمي أثناء نهوضه بالتفويض الموكل إليه وإرشادات مؤتمر الأطراف: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مشروعات متعددة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كثير من ورش العمل، وقرارات مؤتمر الأطراف، ومجموعات الخبراء الفنيين، والعروض التقديمية، 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Times New Roman"/>
                <a:cs typeface="Times New Roman"/>
              </a:rPr>
              <a:t>لكن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نتائج تظل قليلة جداً على أرض الواق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بين الاتفاقيات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دعوة أصحاب المصلحة إلى عرض الحقائق على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رض الواقع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كيف يجري تنفيذ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أعمال التي يتم القيام بها للتشجيع على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سواء على المستوى المؤسسي (بين الوزارات الضالعة في تنفيذ الاتفاقيات) ومستوى العمليات (المشروعات والبرامج الملموسة)؛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المعوقات التي تحول دون تحقق مثل هذا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ضافر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فعال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ا هي أفضل الممارسات التي يمكن تحديدها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عمل الموسعة ل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لبلدان الأعضاء في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مرفق البيئة العالمي تتيح فرصة فريدة لمناقشة أوجه التوافق فيما بين اتفاقيات ريو دي جانيرو عند انعقادها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تفاقيات ريو دي جانيرو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راكز تنسيق 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يات لدي مرفق البيئة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مثلو المجتمع المدني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مناقشة القضايا المتداخلة بالنسبة لكاف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اتفاقيات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4080" indent="-3340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هدف جلسة التمرين على </a:t>
            </a:r>
            <a:r>
              <a:rPr b="1" lang="ar-SA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ضافر الجهود </a:t>
            </a: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نتيجتها المتوقعة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هدف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خروج بتوصيات ملموسة من جانب الأطراف الرئيسية الفاعلة في عملية تنفيذ اتفاقيات ريو دي جانيرو والمشاركة في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 هذه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بلدان الأعضاء في مرفق البيئة العالمي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بشأن كيفية التوفيق بشكل ملموس بين الاتفاقيات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نتيجة المتوقعة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وصيات التي سيرفعها ممثلو البلدان إلى وزاراتهم؛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سجيل التوصيات في محضر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ة 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عمل لاستخدامها في غيرها من </a:t>
            </a:r>
            <a:r>
              <a:rPr b="1" lang="ar-SA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18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عمل الموسعة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تقوم السكرتارية بتجميع كافة ما خرجت به جميع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لقات ال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عمل الموسعة من توصيات بشأن كيفية تحقيق التوافق وجعلها متاحة لكافة أصحاب المصلح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1280" indent="-3412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ar-EG" sz="28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كيفية انعقاد جلسة التمرين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أول: مجموعات العمل، حيث يتم تقسيم المشاركين حسب البلدان، وتحديد أوجه التشابه، والازدواجية، وفرص التماثل في خطة التكيف الوطنية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خطة عمل التكيف الوطنية، وخطة العمل والاستراتيجية الوطنية ل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قدم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مراكز التنسيق والاتصال 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المختلفة الأولويات الخاصة لخططها واستراتيجياتها وكيف تتوقع تنفيذ العمليات المنشودة وتمويلها (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10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 دقائق لكل </a:t>
            </a: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جهة</a:t>
            </a:r>
            <a:r>
              <a:rPr b="0" lang="ar-EG" sz="1800" spc="-1" strike="noStrike">
                <a:solidFill>
                  <a:srgbClr val="000000"/>
                </a:solidFill>
                <a:latin typeface="Constantia"/>
                <a:ea typeface="Majalla U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إجراء نقاش لتحديد أهم وأبرز أوجه التشابه، والازدواجية، وتداخل الأنشطة، وما يمكن تنفيذه بشكل مشترك، وما هي العراقيل التي تواجه مثل هذا التنفيذ المشترك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Constantia"/>
                <a:cs typeface="Majalla UI"/>
              </a:rPr>
              <a:t>تلخيص النقاش وتحديد خلاصته كتابة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ني: تلخيص القضايا وت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قسيمها في مجموع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جزء الثالث: العرض التقديمي والموافقة على التوصيات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يتبع ذلك التمرين العملي على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ضافر الجهود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شكراً لك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بسيط للحلقة المفرغة للآثار المتشعبة لتغير المناخ، والتصحر، وفقدان التنوع </a:t>
            </a:r>
            <a:r>
              <a:rPr b="1" lang="ar-SA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بيولوجي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، وتدهور التربة والتصحر (بما في ذلك مشكلات كمية المياه ونوعيتها) وفقدان التنوع </a:t>
            </a:r>
            <a:r>
              <a:rPr b="1" lang="ar-SA" sz="16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وجه الترابط المعقدة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كبر التحديات للتنمية المستدامة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هديد كبير للحياة على الأر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ؤثر في بعضها البعض بشكل مباشر أو غير مباشر، ومن خلال التفاعلات فيما بي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أوجه الارتباط الهامة بين فقدان التنوع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تغير المناخ، وتدهور التربة والتصح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استخدام غير المستدام للموارد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آثاره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وتغير المناخ، وتدهور الترب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غير المنا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فاقم الأوضاع الحالية لتدهور التربة والتصحر، وفقدان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ــ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ؤدي إلى زيادة التعرض للخط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دورتان الكربونية والمائية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ما عمليتان هائلتان لهما أهمية بالغة بالنسبة للحياة على الأرض؛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مدان على التنوع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يولوجي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نوع </a:t>
            </a:r>
            <a:r>
              <a:rPr b="1" lang="ar-SA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 </a:t>
            </a: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باستطاعته المساعدة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زيز المرونة في وجه آثار تغير المناخ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كافحة تدهور التربة والتصحر؛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7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خفيف من حدة الفقر الذي ترتبط به بشدة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فرصة هائلة لتطبيق الاستراتيجيات والإجراءات الاستباقي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تسقة،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، والمتكاملة: مشروعات مشتركة على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رض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الواقع</a:t>
            </a:r>
            <a:r>
              <a:rPr b="1" lang="ar-E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وفي المنتديات السياسية.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أنشطة المنفردة/المنعزلة وإجراءات الاستجاب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ضع الكثير من المعاهدات البيئية العالمية والأهداف بطريقة تتسم بالتفتت والتشرذ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نعزالية الأنشطة والاستجابات مالم تكن هناك ضرورة، وهو ما يؤدي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لة فعالية التكلف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لقاء أعباء على عاتق الأطراف المعنية فيما يتعلق بالوفاء بالالتزامات والإبلاغ؛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مكانية حدوث آثار سلبية غير مباشرة دون عمد وتدخل عوامل خارجية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أخذ تغير أعداد السكان وعوامله في الحسبان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عف المساهمة/التأثير في تحقيق الصالح العام والخدمات البيئية العالمية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ar-EG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ضرورة النهوض بمشروعات متوافقة ومتكاملة ما أ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الرؤية الخاصة بالمشروعات المتسقة، </a:t>
            </a:r>
            <a:r>
              <a:rPr b="1" lang="ar-SA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رؤية: التعزيز الفعال للمنافع المتعددة من خلال الاتساق ف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بط بين الأنشطة والجهود الخاصة بالاتفاقيات؛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لوغ الأهداف العامة للاتفاق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دون إضاعة للموارد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بطريقة تحقق منافع قيمة مضافة متسقة على المستويات المحلية، والوطنية، والعالمية؛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ن خلال الترتيبات المؤسسية المناسبة وبروتوكولات الاتصالات المتعلقة ببرنامج التكيف الوطني، وبرنامج عمل التكيف الوطني، واستراتيجية وخطة العمل الوطن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سر الحلقة المفرغة من الآثار المتداخلة وتحقيق الأهداف والخطط الاستراتيجية، و</a:t>
            </a:r>
            <a:r>
              <a:rPr b="1" lang="ar-SA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وفاء بالمتطلبات الوارد بشأنها تكليفات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درك الأمم المتحدة جيداً ما يلي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عتماد الاتفاقيات على بعضها البعض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ضرورة التوفيق الشديد بين جهود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الطبيعة التكاملية لأنشطتها التي تؤكد على الحاجة إلى اتباع نهج </a:t>
            </a:r>
            <a:r>
              <a:rPr b="1" i="1" lang="ar-SA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شامل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، متناسق، ومتكامل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ar-EG" sz="4500" spc="-1" strike="noStrike">
                <a:solidFill>
                  <a:srgbClr val="04617b"/>
                </a:solidFill>
                <a:latin typeface="Calibri"/>
                <a:cs typeface="Traditional Arabic"/>
              </a:rPr>
              <a:t>مبررات المشروعات المتكاملة والتحديات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0" lang="ar-SA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بررات الداعية لتضافر الجهود </a:t>
            </a:r>
            <a:r>
              <a:rPr b="0" lang="ar-EG" sz="17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مشروعات المتكاملة: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عروفة جيداً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دارة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نسق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اركة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أدوات (كمؤشرات الإدارة والتقييم،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متابعة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وفي المعلوم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د من ازدواجية الجهود والآثار السلبية غير المقصودة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التكلفة وتقاسم التكلفة والمخاطر؛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شاركة المجتمعات المحلية والسكان الأصليين دون تحميلها أعباء لا داعي لها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عالية تقديم المساندة، وبناء القدرات، وأنشطة التمكين؛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منافع متعددة على المستويات المحلية، والوطنية، والعالمية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حديات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صميم وتنفيذ مشروعات/أنشطة متكاملة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رساء المبادئ المنصوص عليها في اتفاقية ريو +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قيق الأهداف الاستراتيجية للاتفاقيات، والنتائج المستهدفة والخطط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افق مع الأهداف الاستراتيجية لمرفق البيئة وإرشاداته لمؤتمر الأطراف...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ربطها بأنشطة الأطراف المحلية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أخذ أفضل الممارسات والمعرفة التقليدية ذات التركيز على المساواة بين الجنسين في الحسبان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إشراك أصحاب المصلحة المعنيين دون تحميلهم أعباء لا داعي لها أو إرهاقهم، </a:t>
            </a:r>
            <a:r>
              <a:rPr b="0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إرساء الترتيبات المؤسسية...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نافع لا تُعد ولا تُحصى ولكن لا يوجد سوى القليل من الإرشادات الواضحة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شروعات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منسق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</a:t>
            </a:r>
            <a:r>
              <a:rPr b="1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الشاملة</a:t>
            </a:r>
            <a:r>
              <a:rPr b="1" lang="ar-EG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، والمت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520720" cy="1404360"/>
            <a:chOff x="250920" y="1844640"/>
            <a:chExt cx="2520720" cy="140436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20720" cy="819720"/>
              <a:chOff x="250920" y="1844640"/>
              <a:chExt cx="2520720" cy="81972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20720" cy="8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280" y="187740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5320" y="1877400"/>
              <a:ext cx="2390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إطارية بشأن تغير المناخ: الأهداف الاستراتيجية المتعلقة بتغير المناخ، وخطط التكيف الوطنية ، وخطط عمل التكيف الوطنية، وأعمال التخفيف الملائمة وطنيا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3960" cy="1189080"/>
            <a:chOff x="250920" y="2781360"/>
            <a:chExt cx="2523960" cy="118908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680"/>
              <a:ext cx="2523960" cy="804600"/>
              <a:chOff x="250920" y="2785680"/>
              <a:chExt cx="2523960" cy="80460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680"/>
                <a:ext cx="252396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560" y="2820240"/>
                <a:ext cx="239904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6280" y="2781360"/>
              <a:ext cx="2302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لاتفاقية المعنية بالتنوع البيولوجي: أهداف آيتشي والخطة الاستراتيجية للتنوع البيولوجي، وتبادل المعلومات والمنافع، والسلامة الحيوي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1040760"/>
            <a:chOff x="324000" y="3645000"/>
            <a:chExt cx="2519280" cy="104076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09640"/>
              <a:chOff x="324000" y="3645000"/>
              <a:chExt cx="2519280" cy="80964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0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320"/>
              <a:ext cx="2391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المشروعات الأخرى للاتفاقيات البيئية متعددة الأطراف والوطنية: أهداف استراتيجة متنوع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523960" cy="1429920"/>
            <a:chOff x="250920" y="880920"/>
            <a:chExt cx="2523960" cy="142992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523960" cy="798120"/>
              <a:chOff x="250920" y="880920"/>
              <a:chExt cx="2523960" cy="7981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523960" cy="79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6560" y="913320"/>
                <a:ext cx="2401920" cy="67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4600" y="939240"/>
              <a:ext cx="2340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مشروعات اتفاقية مكافحة التصحر: الأهداف والخطة الاستراتيجية لمكافحة تدهور التربة والتصحر، 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0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-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2018</a:t>
              </a:r>
              <a:r>
                <a:rPr b="1" sz="1200" spc="-1" strike="noStrike">
                  <a:solidFill>
                    <a:srgbClr val="080808"/>
                  </a:solidFill>
                  <a:latin typeface="Times New Roman"/>
                  <a:cs typeface="Times New Roman"/>
                </a:rPr>
                <a:t>؛ الخطة التي تمت الموافقة عليها في مؤتمر ريو دي جانيرو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ar-EG" sz="1800" spc="-1" strike="noStrike">
                <a:solidFill>
                  <a:srgbClr val="0070c0"/>
                </a:solidFill>
                <a:latin typeface="Constantia"/>
                <a:cs typeface="ＭＳ Ｐゴシック"/>
              </a:rPr>
              <a:t>المشروع التوافقي المتكامل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اعد في تحقيق أهداف الاتفاقيات المختارة بشكل متزامن (</a:t>
            </a:r>
            <a:r>
              <a:rPr b="1" lang="ar-EG" sz="16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فيما بين الأقسام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ar-EG" sz="15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صبح أوجه الترابط بين الاتفاقيات ملموسة أينما كانت للحاجة إلى تعزيز التعاون أهمية بالغة لتعظيم إمكانيات تنفيذ الاتفاقيات؛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ar-EG" sz="1600" spc="-1" strike="noStrike">
                <a:solidFill>
                  <a:srgbClr val="0070c0"/>
                </a:solidFill>
                <a:latin typeface="Times New Roman"/>
              </a:rPr>
              <a:t>المشروعات المنفردة/المنعزلة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تتطلب </a:t>
            </a:r>
            <a:r>
              <a:rPr b="1" lang="ar-EG" sz="1600" spc="-1" strike="noStrike">
                <a:solidFill>
                  <a:srgbClr val="ff0000"/>
                </a:solidFill>
                <a:latin typeface="Times New Roman"/>
              </a:rPr>
              <a:t>إجراءات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</a:rPr>
              <a:t>لتفادي الآثار السلبية غير المقصودة على أهداف بعضها البعض الآخر وتسهل المنفعة المشترك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للشروع في التنفي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ختيار المشروعات المتكام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أين تشتد أهمية معالجة آثار تغير المناخ، أو تدهور التربة، أو فقدان التنوع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ولوجي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؟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ولوية للمناطق شديدة التعرض للخطر وذات الأهمية البالغة للتكامل البيئي بالنسبة لتحقيق صالح النظام البيئي وخدماته؛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</a:t>
            </a:r>
            <a:r>
              <a:rPr b="0" lang="ar-EG" sz="1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شروعات التي تنطوي على إمكانيات كبرى لتحقيق منافع متعددة ومشتركة وتخفيف حدة الفقر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إمكانية الاستجابة البشرية والمشاركة...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مساواة بين الجنسين، والمعرفة التقليدية، وأفضل الممارسات..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حديد الأهداف والمنافع المحتملة والنتائج المتوقع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النتائج على الأمد القصير، والمتوسط، والطويل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سد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فجوات 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بيانات/المعرفة القائمة </a:t>
            </a: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من أجل تحديد خط الأساس، والمؤشرات، وأدوات الإدارة والتقييم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تقدير المتطلبات من الموارد: الجدوى، </a:t>
            </a:r>
            <a:r>
              <a:rPr b="1" lang="ar-SA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</a:t>
            </a:r>
            <a:r>
              <a:rPr b="1" lang="ar-EG" sz="18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التكلفة، ومصدر التمويل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توافر محاسبة الموارد بالنسبة لكافة المصادر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(مثل مرفق البيئة والتمويل المشترك) وإمكانية إنشاء الشراكات؛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1600" spc="-1" strike="noStrike">
                <a:solidFill>
                  <a:srgbClr val="00b050"/>
                </a:solidFill>
                <a:latin typeface="Times New Roman"/>
                <a:cs typeface="Times New Roman"/>
              </a:rPr>
              <a:t>مصادر التمويل المحلية؟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برز أوضاع المخاطر: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فتقار إلى كفاءة الإدارة واستعراضات دورة حياة المشروعات، وإلى وضوح الأهداف، وأدوات الإدارة والتقييم، ومؤشرات النتائج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 algn="r" rtl="1">
              <a:lnSpc>
                <a:spcPct val="8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المعايير:  </a:t>
            </a:r>
            <a:r>
              <a:rPr b="0" i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حقوق رأس المال في الاعتبار؛ والتوافق المؤسسي مع مزيج السياسات؛ وفعالية التكلفة، والفعالية البيئية طويلة الأمد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4617b"/>
                </a:solidFill>
                <a:latin typeface="Times New Roman"/>
                <a:cs typeface="Times New Roman"/>
              </a:rPr>
              <a:t>تحديد المناطق والمشروعات المتكاملة (يُتبع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ثال الأول: الأراضي الجافة (قضايا عالمية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المساحة البرية لسطح الأرض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بين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طقة شديدة الأهمية عالمياً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سكان العالم (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1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ليار شخص)</a:t>
            </a: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بلدان النامية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بالمناطق العشبية والمراعي، و 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ar-E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دون خط الفقر)؛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</a:t>
            </a:r>
            <a:r>
              <a:rPr b="1" lang="ar-EG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من أنظمة المحاصيل بالعالم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Abeer Mohammed Abdul Kad Al Dagestani</cp:lastModifiedBy>
  <dcterms:modified xsi:type="dcterms:W3CDTF">2013-12-09T21:49:15Z</dcterms:modified>
  <cp:revision>667</cp:revision>
  <dc:subject/>
  <dc:title>GEF Expanded Constituency Workshop (ECW) Honduras – February 19-21, 2013</dc:title>
</cp:coreProperties>
</file>