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C361-0961-4649-BCED-280BDA94F0D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4641-27A9-437C-9B02-0DDE0A4BC6B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999B-23CB-4DFA-B618-290E1A61A00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6535-7A86-4702-987B-576D0E6D131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D9D-C1EF-4254-8D37-7B415837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2A8-1F6D-471D-9B3C-609164D2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582B-8111-4345-A9EE-F641EEEA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EC9-923A-4C50-A773-50177CD4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40E3-7B81-4668-9272-050CD402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43B7-4C74-49A8-88B9-6CFA8988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36F2-2650-42A7-94A5-A5E3AE19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E80F-A80B-493F-8490-1678971F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4DAC-0575-43E3-8A52-547D2BBB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2939-FF64-4E6D-A535-F6376444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297F-CDA3-4EE2-9C62-E8891947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A7B-BF9E-4477-BDA6-F20DFF59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F777-AA02-4315-93F2-E5D5CCFF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824E-7E03-4B7A-ABC8-679281A6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C7E7-A763-4DCF-AFE2-C8B8489A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D018-0D8D-417A-B539-FED38B25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97A6-42A0-4836-998E-3AB6D967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5BA23-94C9-4B4F-9918-0418B80D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510A8-02F4-437F-8F2D-8EF7BD8C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0BA5C-7C81-405A-B43F-B2032088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41DB5-75C9-4BAC-BDD7-7DFD17F4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F01AB-7BD4-4BC5-A860-18B5B53A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36A-481D-4AC8-9585-39A711DE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388E-307C-4221-945E-108CE8EB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0829-214A-4DC7-8C4E-A76205C8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34C3E-765C-42A2-B8C4-BC71EAE6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4965D-9D6B-4EDF-A849-A8461ED1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97B99-3B18-44D0-8DA9-B00E9C9E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193FF-8E9B-40F0-BE9C-22B5546F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BE94E-961D-4B29-AA2E-9DA58127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0F50C-1A80-4AF2-B515-C074C7B3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E3600-D58B-4C02-8912-E6D13D69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AE14B-0547-4328-806D-7163003A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B39-3D80-4EED-8192-9BA3692E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84058-7FC2-4499-9604-CA947312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8D00-7FA4-49E3-ADDF-716904A9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8E2DA-A8A2-4704-B643-C6F361A3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3F49D-DFB2-4B86-AD99-6BAF6627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9D5F3-D247-41A9-9FE0-2F93BEC1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C8CF2-38D2-4279-A78C-B6E2B993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595C3-3639-4C74-904F-4FB714D0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1D8CB-08A2-4EDF-9817-1E2883A0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C49A-6481-4F25-9E86-F455F297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064-5E5F-41D4-B68B-9E01A975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054-DB65-48C4-A172-ABFE1B6C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26C-52A0-4536-A9A7-A0D8A9AC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076-908E-4A35-AC21-AAA4CE5E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F16-A433-4D20-8B20-A666FB41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47E0-EA52-477C-AFEC-149658EB653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1498-01F3-4976-A193-56EE1F6F59D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364E-B988-4CD3-8C31-93878D03352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8365-F28F-462E-885F-7FDF28A60AF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ca/url?sa=i&amp;source=images&amp;cd=&amp;docid=8tTz2gOi3Ezf4M&amp;tbnid=DCzhVKANQnsODM:&amp;ved=0CAgQjRwwAA&amp;url=http%3A%2F%2F3blmedia.com%2FCSR-Profiles%2FUnited-Nations-Convention-Combat-Desertification-UNCCD&amp;ei=cSgMUYjdD4i60QHxg4CYBA&amp;psig=AFQjCNEfR6puls2FKzMG-5yQ9Qg01q750Q&amp;ust=1359837681297646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hyperlink" Target="http://www.google.ca/imgres?imgurl=http://www.unutki.org/downloads/Image/Meetings/cbd-logo-web-green-en.jpg&amp;imgrefurl=http://www.unutki.org/default.php?doc_id%3D186&amp;h=200&amp;w=500&amp;sz=33&amp;tbnid=vzrdawZGafkM7M:&amp;tbnh=47&amp;tbnw=118&amp;prev=/search%3Fq%3DCBD%2Blogo%26tbm%3Disch%26tbo%3Du&amp;zoom=1&amp;q=CBD+logo&amp;usg=__qpc9Vw8BnGfWCHIqKNWBq-JZmfE=&amp;docid=bZYNRX_3pTW7EM&amp;sa=X&amp;ei=KycMUaPwEOuM0QGUooCQCQ&amp;ved=0CEwQ9QEwAw&amp;dur=1440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469800" y="1365120"/>
            <a:ext cx="8266320" cy="2640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4941720"/>
            <a:ext cx="7854840" cy="935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pic28945"/>
          <p:cNvPicPr/>
          <p:nvPr/>
        </p:nvPicPr>
        <p:blipFill>
          <a:blip r:embed="rId2"/>
          <a:stretch/>
        </p:blipFill>
        <p:spPr>
          <a:xfrm>
            <a:off x="6443640" y="5877000"/>
            <a:ext cx="2185920" cy="500040"/>
          </a:xfrm>
          <a:prstGeom prst="rect">
            <a:avLst/>
          </a:prstGeom>
          <a:ln w="0">
            <a:noFill/>
          </a:ln>
        </p:spPr>
      </p:pic>
      <p:pic>
        <p:nvPicPr>
          <p:cNvPr id="205" name="irc_mi" descr="UNCCD%20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5519880"/>
            <a:ext cx="1441440" cy="919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195640" y="5950080"/>
            <a:ext cx="2474640" cy="450720"/>
          </a:xfrm>
          <a:prstGeom prst="rect">
            <a:avLst/>
          </a:prstGeom>
          <a:ln w="0">
            <a:noFill/>
          </a:ln>
        </p:spPr>
      </p:pic>
      <p:pic>
        <p:nvPicPr>
          <p:cNvPr id="207" name="rg_hi" descr="ANd9GcSNhrX5XdgdIi6Y4kPBvyj9dj047zivDNJlLI0ec-c1hvYXoot4g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1280" y="5877000"/>
            <a:ext cx="152064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39640" y="6237360"/>
            <a:ext cx="19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ious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11280" y="765000"/>
            <a:ext cx="74898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2:  Peatlands (Global issu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% of the Earth surface- 4 million km</a:t>
            </a:r>
            <a:r>
              <a:rPr b="1" lang="en-CA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th peat of 30c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10 million  km</a:t>
            </a:r>
            <a:r>
              <a:rPr b="1" lang="en-CA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ith peat &lt; 30c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of global freshwater resourc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11280" y="1773360"/>
            <a:ext cx="712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ealthy Peatlands/wetlands provide myriad benef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ent &amp; toxicant assimilation and carbon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od attenuation, erosion control, sediment trapp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, harvestable resources and cultivated food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ation to CC – Buffer to natural disasters</a:t>
            </a: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7632720" cy="316692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7"/>
          <p:cNvSpPr/>
          <p:nvPr/>
        </p:nvSpPr>
        <p:spPr>
          <a:xfrm>
            <a:off x="468360" y="260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C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dentification of Area and Integrated Project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fforts to Enhance Coordination and Synerg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964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three Rio conventions foresee and promote the creation of synergies between them for their harmonized implementatio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 joint Liaison Group (JLG) between UNFCCC, CBD UNCCD since 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n ad Hoc technical expert group (AHTEG) on CC and BD …since 200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GEF’s Efforts while fulfilling its own Mandate and COP Guidance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umerous projects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Y WORKSHOPS, COP DECISIONS, AHTEGs AND PRESENTATIONS </a:t>
            </a:r>
            <a:r>
              <a:rPr b="1" lang="en-CA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UT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LITTLE RESULTS ON THE GROU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Exercise session on Synergy between the Convention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takeholders will be invited to present the reality on the ground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w the Conventions are implemented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actions are taken to promote synergies both at institutional (between the ministries involved in implementation of the Conventions)  and operational levels (concrete projects and programmes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are the hindrances to the effective materialization of  such synergi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hat best practices can be identified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EF –ECW gives unique opportunity to discuss Synergy among the Rio Conventions as it gath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io Convention Focal Point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EF Operational Focal Points,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presentatives of the Civil Societ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e opportunity to discuss cross-cutting issues for all Convention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Objectives and Expected Outcome of the Exercise Session on Synergy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964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JECTIV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o have concrete recommendations coming from the main actors of the implementation of the Rio Conventions present at this ECW on how to develop concrete synergies between the Rio Convention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XPECTED OUTCOM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mmendations that Focal Points will  take to their Ministries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cord of the recommendations in the ECW minutes for use in other ECW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ecretariats will compile all of the recommendations on how to achieve synergies from all ECWs and make them available for use by all stakeholder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55680" indent="-35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How the Exercise Session will take place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964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irst Part: </a:t>
            </a:r>
            <a:r>
              <a:rPr b="1" lang="en-US" sz="1800" spc="-1" strike="noStrike">
                <a:solidFill>
                  <a:srgbClr val="0070c0"/>
                </a:solidFill>
                <a:latin typeface="Constantia"/>
              </a:rPr>
              <a:t>Work groups, the participants are divided by countries. Identifying similarities, duplications, opportunities for synergies in NAP, NAPA and NBSAP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focal points present priorities of their respective NAP, NAPA and NBSAP and how the foreseen actions are implemented and financed. (10mn each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scussion to identify the main and pressing similarities, duplications, overlapping activities what could be jointly implement, what are the hindrance to such joint implementatio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rap-up of the discussions identifying and writing on pap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t Two: Wrap-Up and Clustering of issu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art Three: Presentation and Approval of recommendation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RACTICAL EXERCISE ON SYNERGY FOLLOW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16440" indent="-31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901800" y="3651120"/>
            <a:ext cx="7559640" cy="1036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7991640" cy="1512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3" descr="present"/>
          <p:cNvPicPr/>
          <p:nvPr/>
        </p:nvPicPr>
        <p:blipFill>
          <a:blip r:embed="rId2"/>
          <a:stretch/>
        </p:blipFill>
        <p:spPr>
          <a:xfrm>
            <a:off x="755640" y="981000"/>
            <a:ext cx="1944720" cy="19432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5" name="Picture 1" descr="future"/>
          <p:cNvPicPr/>
          <p:nvPr/>
        </p:nvPicPr>
        <p:blipFill>
          <a:blip r:embed="rId3"/>
          <a:stretch/>
        </p:blipFill>
        <p:spPr>
          <a:xfrm>
            <a:off x="6875640" y="836640"/>
            <a:ext cx="2016000" cy="195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76" name="Rectangle 5"/>
          <p:cNvSpPr/>
          <p:nvPr/>
        </p:nvSpPr>
        <p:spPr>
          <a:xfrm>
            <a:off x="611280" y="602136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icture credit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Dubrovsky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rg_hi" descr="ANd9GcSNhrX5XdgdIi6Y4kPBvyj9dj047zivDNJlLI0ec-c1hvYXoot4gw"/>
          <p:cNvPicPr/>
          <p:nvPr/>
        </p:nvPicPr>
        <p:blipFill>
          <a:blip r:embed="rId4"/>
          <a:stretch/>
        </p:blipFill>
        <p:spPr>
          <a:xfrm>
            <a:off x="611280" y="5300640"/>
            <a:ext cx="1520640" cy="614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" descr="UNDB+UN-logo-en-RGB-150dpi"/>
          <p:cNvPicPr/>
          <p:nvPr/>
        </p:nvPicPr>
        <p:blipFill>
          <a:blip r:embed="rId5"/>
          <a:stretch/>
        </p:blipFill>
        <p:spPr>
          <a:xfrm>
            <a:off x="2268360" y="5373720"/>
            <a:ext cx="2473560" cy="450720"/>
          </a:xfrm>
          <a:prstGeom prst="rect">
            <a:avLst/>
          </a:prstGeom>
          <a:ln w="0">
            <a:noFill/>
          </a:ln>
        </p:spPr>
      </p:pic>
      <p:pic>
        <p:nvPicPr>
          <p:cNvPr id="279" name="irc_mi" descr="UNCCD%20logo"/>
          <p:cNvPicPr/>
          <p:nvPr/>
        </p:nvPicPr>
        <p:blipFill>
          <a:blip r:embed="rId6"/>
          <a:stretch/>
        </p:blipFill>
        <p:spPr>
          <a:xfrm>
            <a:off x="4859280" y="5084640"/>
            <a:ext cx="1441440" cy="919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pic28945"/>
          <p:cNvPicPr/>
          <p:nvPr/>
        </p:nvPicPr>
        <p:blipFill>
          <a:blip r:embed="rId7"/>
          <a:stretch/>
        </p:blipFill>
        <p:spPr>
          <a:xfrm>
            <a:off x="6443640" y="5373720"/>
            <a:ext cx="2185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C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implified Vicious Circle of Cross-effects of </a:t>
            </a:r>
            <a:br>
              <a:rPr sz="2000"/>
            </a:br>
            <a:r>
              <a:rPr b="1" lang="en-CA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imate change, Desertification and Biodiversity Loss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45440" cy="30956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210" name="Rectangle 7"/>
          <p:cNvSpPr/>
          <p:nvPr/>
        </p:nvSpPr>
        <p:spPr>
          <a:xfrm>
            <a:off x="755640" y="4365720"/>
            <a:ext cx="80643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C, LDD (including water quantity and quality problems) and BD Lo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x Interlinkag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greatest challenges to Sustainable Development;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huge threat to Life on 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y Impact each other Directly or Indirectly  &amp; through their Inter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mportant Linkages between BD Loss, CC, LD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28280"/>
            <a:ext cx="822960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nsustainable use of resour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n BD, CC, L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imate chan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erbates Current Situations of LDD and BD Loss </a:t>
            </a:r>
            <a:r>
              <a:rPr b="1" lang="en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d vulnerabil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rbon and Water Cycl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wo large-scale processes crucial for life on Earth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 on biodiversit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C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</a:t>
            </a: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iodiversity can help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resilience to the effects of climate change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at land degradation and desertification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viate poverty to which it is strongly linked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ge opportunity for Proactive, Coherent, Holistic and Integrated Strategies and Measures: Joint Projects on the ground and Policy fora..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ndividual/Isolated Activities and Response Measur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39640" y="3716280"/>
            <a:ext cx="82090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ny Global Environment Treaties &amp; Goals Developed in a Fragmented w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olated Activities and Responses unless necessary, tend to lea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cost-effectiven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den for Parties in terms of fulfilling obligations and reporting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 of unintended negative indirect impacts and externaliti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account for changing population size and dynam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ntribution/impact to global environmental goods and servic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ed for Synergy and Integrated Projects wher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48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Vision of Coherent, Holistic and Integrated Projec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Vision: Efficiently enhance multiple benefits b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ynergistically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bining activities and efforts of the Conventions; a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eeting the Conventions’ overall objectiv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thout wastage of resources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 a way that produces synergistic value-added benefits at local, national and global level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With appropriate institutional arrangement and communication protocols with respect to NAP, NAPA, NBSAP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verse the Vicious Circle of Cross-effects and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et  the Objectives and Strategic Plans, and fulfil the mandate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UN recogniz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interdependence</a:t>
            </a:r>
            <a:r>
              <a:rPr b="0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f the Conventions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strong synergies between their efforts; and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complementary nature of their activities that underpins the need for a holistic, coordinated and integrated approach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ationale for Integrated Projects and Challen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9280" y="119700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ationale for Synergy and Integrated Projects: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y well known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d Management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Tools (M&amp;E, indicators, tracking) and Information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uplication of effort and unintended negative impact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Efficiently and Cost and Risk Sharing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ion of indigenous and local communities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undue burde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provision of support, capacity building, and enabling activities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benefits at local, national and global levels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C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sign and implementation</a:t>
            </a:r>
            <a:r>
              <a:rPr b="0" i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f Integrated Projects/Activitie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alize the principles laid out in Rio+20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eet the Strategic Goals, Targets  and Plans of the Conventions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line with GEF’s Strategic Goals and its Guidance to COP...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inking</a:t>
            </a:r>
            <a:r>
              <a:rPr b="0" i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o local actor’s activitie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counting for best practices and gender focussed traditional knowledge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volving  relevant stakeholders without undue burden and fatigue,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ing institutional arrangements…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b050"/>
                </a:solidFill>
                <a:latin typeface="Wingdings"/>
                <a:ea typeface="Wingdings"/>
              </a:rPr>
              <a:t></a:t>
            </a:r>
            <a:r>
              <a:rPr b="0" lang="en-C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C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riad of Benefits but Little Clear Guidance Available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Oval 19"/>
          <p:cNvGrpSpPr/>
          <p:nvPr/>
        </p:nvGrpSpPr>
        <p:grpSpPr>
          <a:xfrm>
            <a:off x="4614840" y="755640"/>
            <a:ext cx="3340080" cy="3335400"/>
            <a:chOff x="4614840" y="755640"/>
            <a:chExt cx="3340080" cy="3335400"/>
          </a:xfrm>
        </p:grpSpPr>
        <p:pic>
          <p:nvPicPr>
            <p:cNvPr id="221" name="Oval 19" descr=""/>
            <p:cNvPicPr/>
            <p:nvPr/>
          </p:nvPicPr>
          <p:blipFill>
            <a:blip r:embed="rId1"/>
            <a:stretch/>
          </p:blipFill>
          <p:spPr>
            <a:xfrm>
              <a:off x="4614840" y="755640"/>
              <a:ext cx="3340080" cy="333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3501800">
              <a:off x="5353560" y="1116720"/>
              <a:ext cx="1854000" cy="25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7"/>
          <p:cNvSpPr/>
          <p:nvPr/>
        </p:nvSpPr>
        <p:spPr>
          <a:xfrm>
            <a:off x="755640" y="260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Coordinated, Holistic and Integrated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Oval 4"/>
          <p:cNvGrpSpPr/>
          <p:nvPr/>
        </p:nvGrpSpPr>
        <p:grpSpPr>
          <a:xfrm>
            <a:off x="4041720" y="1427040"/>
            <a:ext cx="2835360" cy="3151440"/>
            <a:chOff x="4041720" y="1427040"/>
            <a:chExt cx="2835360" cy="3151440"/>
          </a:xfrm>
        </p:grpSpPr>
        <p:pic>
          <p:nvPicPr>
            <p:cNvPr id="225" name="Oval 4" descr=""/>
            <p:cNvPicPr/>
            <p:nvPr/>
          </p:nvPicPr>
          <p:blipFill>
            <a:blip r:embed="rId2"/>
            <a:stretch/>
          </p:blipFill>
          <p:spPr>
            <a:xfrm>
              <a:off x="4041720" y="1427040"/>
              <a:ext cx="283536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5400000">
              <a:off x="4412520" y="2029680"/>
              <a:ext cx="2087280" cy="18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Oval 9"/>
          <p:cNvGrpSpPr/>
          <p:nvPr/>
        </p:nvGrpSpPr>
        <p:grpSpPr>
          <a:xfrm>
            <a:off x="4614840" y="1182600"/>
            <a:ext cx="3340080" cy="2809800"/>
            <a:chOff x="4614840" y="1182600"/>
            <a:chExt cx="3340080" cy="2809800"/>
          </a:xfrm>
        </p:grpSpPr>
        <p:pic>
          <p:nvPicPr>
            <p:cNvPr id="228" name="Oval 9" descr=""/>
            <p:cNvPicPr/>
            <p:nvPr/>
          </p:nvPicPr>
          <p:blipFill>
            <a:blip r:embed="rId3"/>
            <a:stretch/>
          </p:blipFill>
          <p:spPr>
            <a:xfrm>
              <a:off x="4614840" y="1182600"/>
              <a:ext cx="33400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 rot="1132200">
              <a:off x="5149440" y="1655640"/>
              <a:ext cx="22701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Oval 10"/>
          <p:cNvGrpSpPr/>
          <p:nvPr/>
        </p:nvGrpSpPr>
        <p:grpSpPr>
          <a:xfrm>
            <a:off x="3200400" y="762120"/>
            <a:ext cx="3303720" cy="2987640"/>
            <a:chOff x="3200400" y="762120"/>
            <a:chExt cx="3303720" cy="2987640"/>
          </a:xfrm>
        </p:grpSpPr>
        <p:pic>
          <p:nvPicPr>
            <p:cNvPr id="231" name="Oval 10" descr=""/>
            <p:cNvPicPr/>
            <p:nvPr/>
          </p:nvPicPr>
          <p:blipFill>
            <a:blip r:embed="rId4"/>
            <a:stretch/>
          </p:blipFill>
          <p:spPr>
            <a:xfrm>
              <a:off x="3200400" y="762120"/>
              <a:ext cx="330372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rot="20457000">
              <a:off x="3738240" y="1244160"/>
              <a:ext cx="2224080" cy="19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8"/>
          <p:cNvGrpSpPr/>
          <p:nvPr/>
        </p:nvGrpSpPr>
        <p:grpSpPr>
          <a:xfrm>
            <a:off x="250920" y="1844640"/>
            <a:ext cx="2736720" cy="762840"/>
            <a:chOff x="250920" y="1844640"/>
            <a:chExt cx="2736720" cy="762840"/>
          </a:xfrm>
        </p:grpSpPr>
        <p:grpSp>
          <p:nvGrpSpPr>
            <p:cNvPr id="234" name="Rektangel 128"/>
            <p:cNvGrpSpPr/>
            <p:nvPr/>
          </p:nvGrpSpPr>
          <p:grpSpPr>
            <a:xfrm>
              <a:off x="250920" y="1844640"/>
              <a:ext cx="2549880" cy="738360"/>
              <a:chOff x="250920" y="1844640"/>
              <a:chExt cx="2549880" cy="738360"/>
            </a:xfrm>
          </p:grpSpPr>
          <p:pic>
            <p:nvPicPr>
              <p:cNvPr id="235" name="Rektangel 128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844640"/>
                <a:ext cx="254988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287640" y="1874160"/>
                <a:ext cx="242316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Rektangel 63"/>
            <p:cNvSpPr/>
            <p:nvPr/>
          </p:nvSpPr>
          <p:spPr>
            <a:xfrm>
              <a:off x="356760" y="1874160"/>
              <a:ext cx="2630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UNFCCC Projects : CC Strategic Objectives, NAPs, NAPAs, NAMA’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8"/>
          <p:cNvGrpSpPr/>
          <p:nvPr/>
        </p:nvGrpSpPr>
        <p:grpSpPr>
          <a:xfrm>
            <a:off x="250920" y="2781360"/>
            <a:ext cx="2520720" cy="738000"/>
            <a:chOff x="250920" y="2781360"/>
            <a:chExt cx="2520720" cy="738000"/>
          </a:xfrm>
        </p:grpSpPr>
        <p:grpSp>
          <p:nvGrpSpPr>
            <p:cNvPr id="239" name="Rektangel 128"/>
            <p:cNvGrpSpPr/>
            <p:nvPr/>
          </p:nvGrpSpPr>
          <p:grpSpPr>
            <a:xfrm>
              <a:off x="250920" y="2785320"/>
              <a:ext cx="2520720" cy="734040"/>
              <a:chOff x="250920" y="2785320"/>
              <a:chExt cx="2520720" cy="734040"/>
            </a:xfrm>
          </p:grpSpPr>
          <p:pic>
            <p:nvPicPr>
              <p:cNvPr id="240" name="Rektangel 128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2785320"/>
                <a:ext cx="252072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86200" y="2816640"/>
                <a:ext cx="2396520" cy="62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Rektangel 63"/>
            <p:cNvSpPr/>
            <p:nvPr/>
          </p:nvSpPr>
          <p:spPr>
            <a:xfrm>
              <a:off x="385920" y="2781360"/>
              <a:ext cx="209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CBD Projects: BD Aichi Targets &amp; Strategic Plan &amp; ABS and Biosafe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8"/>
          <p:cNvGrpSpPr/>
          <p:nvPr/>
        </p:nvGrpSpPr>
        <p:grpSpPr>
          <a:xfrm>
            <a:off x="324000" y="3645000"/>
            <a:ext cx="2519280" cy="828000"/>
            <a:chOff x="324000" y="3645000"/>
            <a:chExt cx="2519280" cy="828000"/>
          </a:xfrm>
        </p:grpSpPr>
        <p:grpSp>
          <p:nvGrpSpPr>
            <p:cNvPr id="244" name="Rektangel 128"/>
            <p:cNvGrpSpPr/>
            <p:nvPr/>
          </p:nvGrpSpPr>
          <p:grpSpPr>
            <a:xfrm>
              <a:off x="324000" y="3645000"/>
              <a:ext cx="2519280" cy="811080"/>
              <a:chOff x="324000" y="3645000"/>
              <a:chExt cx="2519280" cy="811080"/>
            </a:xfrm>
          </p:grpSpPr>
          <p:pic>
            <p:nvPicPr>
              <p:cNvPr id="245" name="Rektangel 128" descr=""/>
              <p:cNvPicPr/>
              <p:nvPr/>
            </p:nvPicPr>
            <p:blipFill>
              <a:blip r:embed="rId7"/>
              <a:stretch/>
            </p:blipFill>
            <p:spPr>
              <a:xfrm>
                <a:off x="324000" y="3645000"/>
                <a:ext cx="251928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>
                <a:off x="360360" y="3676680"/>
                <a:ext cx="2395440" cy="69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Rektangel 63"/>
            <p:cNvSpPr/>
            <p:nvPr/>
          </p:nvSpPr>
          <p:spPr>
            <a:xfrm>
              <a:off x="430200" y="3739680"/>
              <a:ext cx="239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Other MEA, National... Projects: variou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Strategic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50920" y="880920"/>
            <a:ext cx="2736720" cy="1012680"/>
            <a:chOff x="250920" y="880920"/>
            <a:chExt cx="2736720" cy="1012680"/>
          </a:xfrm>
        </p:grpSpPr>
        <p:grpSp>
          <p:nvGrpSpPr>
            <p:cNvPr id="249" name="Rektangel 128"/>
            <p:cNvGrpSpPr/>
            <p:nvPr/>
          </p:nvGrpSpPr>
          <p:grpSpPr>
            <a:xfrm>
              <a:off x="250920" y="880920"/>
              <a:ext cx="2610000" cy="801720"/>
              <a:chOff x="250920" y="880920"/>
              <a:chExt cx="2610000" cy="801720"/>
            </a:xfrm>
          </p:grpSpPr>
          <p:pic>
            <p:nvPicPr>
              <p:cNvPr id="250" name="Rektangel 128" descr=""/>
              <p:cNvPicPr/>
              <p:nvPr/>
            </p:nvPicPr>
            <p:blipFill>
              <a:blip r:embed="rId8"/>
              <a:stretch/>
            </p:blipFill>
            <p:spPr>
              <a:xfrm>
                <a:off x="250920" y="880920"/>
                <a:ext cx="261000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7640" y="913320"/>
                <a:ext cx="2484360" cy="68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Rektangel 63"/>
            <p:cNvSpPr/>
            <p:nvPr/>
          </p:nvSpPr>
          <p:spPr>
            <a:xfrm>
              <a:off x="358200" y="939600"/>
              <a:ext cx="2629440" cy="9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sz="14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UNCCD Projects : LDD Strategic Objectives &amp; Plan 2008-2018; Rio approved plan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200" spc="-1" strike="noStrike">
                  <a:solidFill>
                    <a:srgbClr val="080808"/>
                  </a:solidFill>
                  <a:latin typeface="Times New Roman"/>
                  <a:ea typeface="Times New Roman"/>
                </a:rPr>
                <a:t>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22"/>
          <p:cNvSpPr/>
          <p:nvPr/>
        </p:nvSpPr>
        <p:spPr>
          <a:xfrm>
            <a:off x="684360" y="4508640"/>
            <a:ext cx="72007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A synergistically 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Integrated Projec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elps achieve selected objectives of the Conventions simultaneously (</a:t>
            </a:r>
            <a:r>
              <a:rPr b="1" lang="en-US" sz="1600" spc="-1" strike="noStrike">
                <a:solidFill>
                  <a:srgbClr val="00b0f0"/>
                </a:solidFill>
                <a:latin typeface="Times New Roman"/>
                <a:ea typeface="ＭＳ Ｐゴシック"/>
              </a:rPr>
              <a:t>Intersection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 – </a:t>
            </a:r>
            <a:r>
              <a:rPr b="1" lang="en-C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kages between the Conventions become substantial where the need for enhanced cooperation is crucial to maximize the potential implementation of the Conventions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Times New Roman"/>
                <a:ea typeface="ＭＳ Ｐゴシック"/>
              </a:rPr>
              <a:t>Individual/Isolated project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quir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measur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avoid unintended negative impacts on each other’s objectives and facilitate co-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nstanti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dentification of Area and Integrated Projects</a:t>
            </a:r>
            <a:br>
              <a:rPr sz="2400"/>
            </a:b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for Implement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tegrated Project Selecti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ere &amp; which CC, LD or BD loss impacts are most critical to address?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 </a:t>
            </a: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ority to areas of high vulnerability and critical for environmental integrity for the  provision of ecosystem goods and services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  Projects of high potential multiple benefits/co-benefits &amp;</a:t>
            </a:r>
            <a:r>
              <a:rPr b="1" i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eviation of Povert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uman potential response, participatio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Gender, Traditional Knowledge, Best Practices…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dentify goals and possible benefits and expected outcome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Short, medium and long-term results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ddress current data/knowledge gaps</a:t>
            </a:r>
            <a:r>
              <a:rPr b="1" i="1" lang="en-C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for baseline, indicators, M&amp;E tools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stimate resource requirements: Feasibility, cost and source of fundin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vailability of resources accounting for all sources..</a:t>
            </a:r>
            <a:r>
              <a:rPr b="0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unding sources (ex. GEF and co-financing) and Partnerships possibilities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omestic sources of funding?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 Risk Condition</a:t>
            </a:r>
            <a:r>
              <a:rPr b="0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efficient management and life cycle project reviews, clear objectives,  and M&amp;E tools and outcome indicators.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in criteria</a:t>
            </a:r>
            <a:r>
              <a:rPr b="0" lang="en-CA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ty consideration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ional compatibility of policy combinations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cost and long-term environmental effectivenes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61800" indent="-361800">
              <a:lnSpc>
                <a:spcPct val="9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Identification of Area and Integrated Projects (Cont.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83664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1. Drylands (Global issu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1.3% of land surface of the Earth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8 of 25 global hotspots</a:t>
            </a:r>
            <a:r>
              <a:rPr b="0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6% of Global Population (2.1 billion people) –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0% in Developing Countries, 84 % in Grasslands and Rangelands and 50% below poverty line)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4% of the World’s cultivated System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Content Placeholder 3" descr=""/>
          <p:cNvPicPr/>
          <p:nvPr/>
        </p:nvPicPr>
        <p:blipFill>
          <a:blip r:embed="rId1"/>
          <a:stretch/>
        </p:blipFill>
        <p:spPr>
          <a:xfrm>
            <a:off x="542880" y="2481120"/>
            <a:ext cx="82771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19:57:25Z</dcterms:created>
  <dc:creator>Edji-CAD</dc:creator>
  <dc:description/>
  <dc:language>en-US</dc:language>
  <cp:lastModifiedBy>Maria Camila Perez Gabilondo</cp:lastModifiedBy>
  <dcterms:modified xsi:type="dcterms:W3CDTF">2013-11-13T17:44:14Z</dcterms:modified>
  <cp:revision>631</cp:revision>
  <dc:subject/>
  <dc:title>GEF Expanded Constituency Workshop (ECW) Honduras – February 19-21, 2013</dc:title>
</cp:coreProperties>
</file>