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843-3448-49E4-9812-C9AF6031ABA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A11-30F2-4EFE-89C4-FEA91A34BC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A788-DC11-44B2-92DE-7F42E8040B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90ED-6E29-467D-900C-733891C54F5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7B1-0623-499A-A9E8-2E1042EB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93F-1DA4-4DFA-AA87-CE2BDC2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559-9871-4625-AD30-B94E9B04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AD6-5249-4F8B-8759-34B01293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E9B3-2C23-4B49-A6FC-9261AD8E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2DB-36BD-41BC-BF23-DFE3E7A6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539C-191F-4A39-92FF-5E4CF4F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22B-CAFC-488E-BB93-49B1B65C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228B-FCF9-4565-9E5D-A5A051B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89E-710B-4D44-9946-30146F3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FCDD-A15F-442C-BCF0-F9B6A66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873-9C1F-4C0C-8B90-2744A287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EBFF-B1CB-4246-904D-F6032664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0F69-C9A2-43AB-94D9-F349316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66B-4078-4DF6-8C45-5EB42494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78EE-7444-4F3A-91DA-C43CB30B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9FC-6737-4D07-BF48-A0D31F3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74F3-7DED-489E-A02B-9F35AC75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2456-3217-4F75-BC85-A1BBCB9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8642-07DE-4B9F-8547-29E60F01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B5B4-164E-45B0-9841-59A7A74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24AD-F6A3-49E6-9E53-651C6B2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CB6-2696-4B72-86AE-1A6B188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186F-9279-4993-AA03-4C960676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396B-787D-40C5-8A41-C141AC4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74DA-6301-4253-827A-6398B66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8C2F-2B13-49BB-88CA-A228AA7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0BCC-C974-48E9-9957-C706E82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EF30-C144-4FC8-9CBC-459C58F8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85A4-6A4B-4F7B-BD4D-A5EB7805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ABA9-32EB-4AB0-9381-BA039572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6DC9-1C06-4EA4-922B-338EDC2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B49D-B9ED-42F2-B3B4-A9C85BD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15E-C374-414B-8E0F-D1897A67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71F5-CC7E-4458-9A69-CB840AB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2689-AEB6-4D6F-AFB3-D2D3989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6695-DDC9-44CB-A136-B0EB363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E83B-CC8C-481D-8866-0A710D4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8F01-39D8-49FD-85CB-BFA6C5C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C8C4-D541-4BAA-B301-754BE69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931C-491D-4509-BC5C-0D6DFE29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A185-57F9-45D1-9975-07EED7A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A1F1-C85C-4286-B060-C0DB4B3E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309-49D2-479A-8671-162F93F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EC7-982F-48A4-9D91-E842D759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18B-54C7-467D-A665-0D10ED4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14E-69AA-45E5-8C2B-EE179EF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D9B-9561-42E2-BE76-C0E8F0D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4B9-E76E-44E9-A503-8EA86EF50D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A95-D301-4DF6-A97E-1BADA85ED5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295D-BB28-4F26-ADE1-9C4C37F935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6918-8977-4638-B0DD-5576C87FA9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365120"/>
            <a:ext cx="8266320" cy="2640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Maria Camila Perez Gabilondo</cp:lastModifiedBy>
  <dcterms:modified xsi:type="dcterms:W3CDTF">2013-11-13T17:44:14Z</dcterms:modified>
  <cp:revision>631</cp:revision>
  <dc:subject/>
  <dc:title>GEF Expanded Constituency Workshop (ECW) Honduras – February 19-21, 2013</dc:title>
</cp:coreProperties>
</file>