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0AE1-9DDB-4359-8797-391D17C98FF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4DAE-368F-4428-BF0D-B34575968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67F2-E86A-455A-B2A4-8DB1DE1F1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8774-1622-4FCC-8784-ED0C372EA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3C1F-A4A3-4EF1-A7E8-DDE96BF2A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588FA-237A-4114-BC26-FFA072E37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79F5-E172-405D-98E7-19576234E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1AD9-8515-4867-856E-8D494CADD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EC9D-5D34-4B07-A11D-3EFD4CECFB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9A85-C40B-48DE-B44B-AA2040AAA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07C0-5098-4735-A02C-A89B2FED9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A628-7757-4C0E-9A4D-932852167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8068-6C60-48FA-890C-A7EB1B5D61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2D7A-F1ED-478E-8C5A-0FEB859C7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0B73-595F-4A49-87F0-308FE21D5C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BA7E-E4C9-4CA8-BDAA-B67C9332C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6BA5-E611-4FF5-842D-51406025F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GEF Expanded Constituency Workshop</a:t>
            </a:r>
            <a:endParaRPr b="0" lang="en-US" sz="3200" spc="-1" strike="noStrike">
              <a:solidFill>
                <a:srgbClr val="000000"/>
              </a:solidFill>
              <a:latin typeface="Calibri"/>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ombo, Sri Lank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ch 17-19, 2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Camila Perez Gabilondo</cp:lastModifiedBy>
  <cp:lastPrinted>2015-01-21T13:27:28Z</cp:lastPrinted>
  <dcterms:modified xsi:type="dcterms:W3CDTF">2015-03-16T01:48:01Z</dcterms:modified>
  <cp:revision>375</cp:revision>
  <dc:subject/>
  <dc:title>Slide 1</dc:title>
</cp:coreProperties>
</file>