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F3A5-09EA-46B2-97B8-A130FEB676F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35DE-9A52-42F2-B2FF-B45DC9C4B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780C-D27D-4019-8E8A-3674E4EE6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293A-7485-48E0-8910-73D6C6F5F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A939-F53A-4262-8DB0-C27C8D868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E46E-F56F-42D8-8A01-ECD2DBA5B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B016-F566-44BD-B8B0-44DA9B9C7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54956-A3AF-4B65-8D78-062D5CB2F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5F20-4BCE-434D-8C8F-49589697D9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EE28-76B3-45E0-9A2D-FCACBFA5C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3D58-C496-4C3A-9BF0-F1EF921AE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5394-D007-4747-9902-EEA363268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9F5B-7998-4FF8-9101-8B93728335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A856-4E91-45B0-B33F-7058886B0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8895-25C4-4962-A95F-176066327B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C735-B3C0-402C-8D2B-D8E773F30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1A7C-E2E8-49A1-95FE-0B3722E52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GEF Expanded Constituency Workshop</a:t>
            </a:r>
            <a:endParaRPr b="0" lang="en-US" sz="3200" spc="-1" strike="noStrike">
              <a:solidFill>
                <a:srgbClr val="000000"/>
              </a:solidFill>
              <a:latin typeface="Calibri"/>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mbo, Sri Lanka</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ch 17-19, 20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Camila Perez Gabilondo</cp:lastModifiedBy>
  <cp:lastPrinted>2015-01-21T13:27:28Z</cp:lastPrinted>
  <dcterms:modified xsi:type="dcterms:W3CDTF">2015-03-16T01:48:01Z</dcterms:modified>
  <cp:revision>375</cp:revision>
  <dc:subject/>
  <dc:title>Slide 1</dc:title>
</cp:coreProperties>
</file>