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9384-960C-4507-911A-1214B47DE3A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72DB-748B-4BDE-B446-323A29CCC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690B-3C63-4CEE-AA95-2B36D72E1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6A96-413C-4997-B7FB-CF9FDD6B1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466D-3AE8-4B9D-B799-B2F0902E1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D254-41C6-4A3D-8E60-1E7C101D0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193B-B749-4163-A1BA-DF6C87153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D571-79A6-4DDD-BBFB-EA0A5E43F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C2C4-7EA6-4DBB-8E44-DD7E1E21119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F3C3-1623-4682-A8AB-AC65AC4BB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73EC-1392-4B44-8510-54FB01D53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D2EA-33F4-43B6-9F3A-EB6C248E4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DB79-3A2F-4070-A0F3-039E9447A3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D8EA-1AEC-4D78-A774-519006688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CBDB-E306-448C-9DC3-A531155EFD5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7E1B-6480-4403-BFEF-7E67624A6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F78D-8F97-47E7-B704-1F6F623BF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Tbilisi, Georg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June 22-24,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1-21T13:27:28Z</cp:lastPrinted>
  <dcterms:modified xsi:type="dcterms:W3CDTF">2015-06-05T16:31:26Z</dcterms:modified>
  <cp:revision>378</cp:revision>
  <dc:subject/>
  <dc:title>Slide 1</dc:title>
</cp:coreProperties>
</file>