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083C-BD17-41DE-81C1-FC46B17EFAB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49B8-F7F1-4590-9C72-4E76DD80E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63B1-9B78-4EF8-93D4-C8ADD8E78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DC6C-F756-4476-BDBC-E728D1793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1356-906B-41D9-B88B-C10D64E19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636A-8A1B-4D41-8282-E6D44DA9F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ACBE-5F45-49F9-A74F-5931D44CB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3FEA-71E9-4989-83C5-CD26974B7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1291-3893-42A3-8AC6-DCC2AC8FE3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1269-50D2-4094-8B05-48B1602DB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8612-012E-47CD-967D-EEB8E3594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AE71-96F7-40BA-9614-08BB5735A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877D-DA43-4F47-BABE-993178FAFB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15F0-DC66-4014-8303-501AC70AA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DAFD-5903-4371-9EA6-F35E8793F5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35D4-DDF7-46E8-8533-F1371F9DE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454A-8527-4447-BCE2-227F303D6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Tbilisi, Georg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June 22-2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6-05T16:31:26Z</dcterms:modified>
  <cp:revision>378</cp:revision>
  <dc:subject/>
  <dc:title>Slide 1</dc:title>
</cp:coreProperties>
</file>